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57A5D-F3B9-4FB1-9897-6BE9DADAC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9509C-D6FC-41F2-85D7-97F688FC5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C5A3F-C07C-4B0C-8EBD-33B5ABD6E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9C693-DF1E-45E7-8C93-AA1BF954B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E6959-3A89-42D7-8F59-950B9125C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0CB16-71C6-4121-8041-D438C8800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66EEE-5FDC-4E34-81C1-50DE69F39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DF813-3794-4C78-A3D0-C9A8E2249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ED82B-1E22-45E4-BDCF-C1FBB49DC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69A00-60B8-47D4-B0D4-E4A1618CD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C5A39-594A-4649-B20B-60E9617B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FC0C-630D-44EA-BD5C-9744ECF2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2D902-FC9C-496A-97E9-E25D96E06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42EC-4CD7-407C-9F7D-17DBBF53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34ECD-3F0A-41A2-B5D0-83B11DBFA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79F0F-B872-40DF-B05A-E36C5DA94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99170-BC89-40C6-964F-3FD45B234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6758A5-942C-468B-ACCD-AB8CD0D4D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5DC1CF-2E59-45C5-A0A3-F22E2ECD9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D50D70-2236-4C85-93BD-6DCB42FAB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97F528-2569-4EFF-8586-67C22E1A3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7EC77A-667C-49BE-B7FF-B5034C2F9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85ADB-E230-4EF0-87D1-E10E76546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A9FEE6-9A0D-4472-A92E-8F220E57E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E6434C-8384-40B6-9B85-5C0241C1A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6C769C-A8AC-4E13-BE4B-ED9D45627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F35ED5-80E0-495E-8F19-7591F4145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939826-ED92-479E-A5AE-DE8357D13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6F5009-7E1B-4515-94D1-F67BA48AA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304581-F5B5-4A2B-A26E-2C1741805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CCF2E4-2557-423C-B4F8-847D8C39E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61511E-E262-4FED-A454-DC813658A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E78151-A444-4547-9BC2-AE682F048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EE5A-DA94-4B36-A93F-5C59EDEA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0A88A33-E814-48AD-871E-7353906D4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95E918-DF80-4815-9AAD-9A9924725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07012C-0F2C-41D2-9CBB-DA11AFF50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245796-48B3-48D7-9635-F0F29C60E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810BF0-8C25-42B2-89FE-1B1BF6305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815EAC-CA9B-464A-87C3-3137AE83B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421C85-AD37-43A2-8DFC-AE94C2037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ACA5D46-A540-4E35-9D90-6A7DE7494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3A2BDE5-FE48-4B14-98D9-87482514E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E0D052-BD43-48C6-BA8A-019C8002E4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9D95D-B725-4915-B7AE-EA9FCD75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348901-7180-43D5-BA14-75D5B2C35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B65B4D-5B3B-494B-BF40-38E8DF0D4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471AA1-BC6B-46A7-AEB7-75952A4D8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A7329C-2D9E-4D2D-89BA-0C8F2BEAD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1E41FA-4313-42B1-9603-5491FE8C9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271098-A992-4B8D-98E9-114D2C0B9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7CA50D-1437-4085-A013-5DC423612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A3F6F3-42D8-4322-8A7A-D2C2D07ED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7C3C2A-CCA0-407B-81F2-64F0740CA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16ADEA0-C4E2-4977-9205-9029DB72E6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45B69-B572-477E-8400-67C2CA185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8D15A0-9534-463D-A5B6-A4ED10B521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7E1C85-0A4A-40D7-9DC8-B82806D156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08D5C-8F4A-4355-81B9-85B3A6D15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BA9190-140E-4467-8537-9E32981AE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A0A2E-34C9-48D2-A365-DA9999B9A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F9F8AC-86C4-40BD-877B-CAE2DD7D0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2B9F4-97F4-43E5-80E9-04E172BA8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B4D03-74A7-4281-A068-F53917659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DBCBC-7EF6-49BE-AF16-3F8EFEEC9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C365F-130E-4CB8-8CE0-B25083FDF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23A9-0BED-419C-8CE7-9C44DEA1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812A8-B521-48A7-936A-60C9D715E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3F957-FBA5-4CF6-8722-8730FBD3AF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F56A47-0B7C-4FB3-AD3F-E410E5E8B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048E03F-EAF5-4849-8AAE-568C482024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30BCCD3-8EE5-4B26-A908-726AFD58C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DFA9FC-0529-4918-823B-580D069C1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8FDEC2-26B6-41AD-94DD-2B080804F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FA01F37-A286-45C0-BD91-FB3670F2A3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39FBE9F-6BA3-42A0-BD1A-AF1459AF8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7C7A56-6652-4314-99F7-896B5CC13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0ABD-78C0-49EE-A626-5D5888F3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2B16D0-E34B-4E87-A99D-5FFBD5D7B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5EF375-68B0-4E09-A0EA-3759076DA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9B5130-2204-4698-A028-FFCC88D2D4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899640E-23D1-4F61-A017-6249D4DB13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46096F6-44C3-4878-94F7-B9EFF6DA34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846FEF-3183-4016-AE86-143BA7F41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D1C86-C342-4091-9022-E35FA6C8EA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949B7-C37B-427E-875C-5DDA701A4A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93AFA-E0E0-42B4-966B-4E360D671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3156E-797F-46AE-BE2B-F11E82449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B42A4-F069-45B6-9102-FEBC0F43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0C8823-909B-4F94-BF3C-17622EAFE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77E1C-947F-442A-AC22-D445AD950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71FDC-57D7-4557-BED8-D27A28517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F2599-F7CF-4A16-BC48-5AFA4950B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9C086-FDDC-4350-9036-39EDF1267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BF1317-E945-4AAB-AE34-8DCEFBAD74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3399AC-FBDD-4DB4-9B0E-09945DDABF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93C3-DDBF-446C-B7E3-71D3E20D4A41}"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Obdélní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9FF8-308D-4FFA-AED0-9377B8526CEF}" type="slidenum">
              <a:rPr b="1" lang="cs-CZ"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Obdélní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bdélní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D1CF-6709-4396-A193-42406F7C337A}" type="slidenum">
              <a:rPr b="1" lang="cs-CZ"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9AB8-3745-4AB9-B2DB-31199D2870AF}"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Obdélní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bdélní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bdélní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4F7-8E80-47D7-BC8C-610F2F47FF0D}"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9F3-3A73-469E-873E-96265D18CF20}" type="slidenum">
              <a:rPr b="1" lang="cs-CZ"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Obdélní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bdélní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bdélní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562E-5A2D-4121-B068-F22773B2DC6F}" type="slidenum">
              <a:rPr b="1" lang="cs-CZ"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Obdélní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bdélní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bdélní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894A-08B6-49FD-959D-AC32849B34E6}" type="slidenum">
              <a:rPr b="1" lang="cs-CZ"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bddc3"/>
                </a:solidFill>
                <a:latin typeface="Tw Cen MT"/>
              </a:rPr>
              <a:t>MULTISIM – VÝUKOVÝ ELEKTRONICKÝ MATERIÁL</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w Cen MT"/>
              </a:rPr>
              <a:t>Pavel Benajtr</a:t>
            </a:r>
            <a:endParaRPr b="0" lang="en-US" sz="2600" spc="-1" strike="noStrike">
              <a:solidFill>
                <a:srgbClr val="ffffff"/>
              </a:solidFill>
              <a:latin typeface="Tw Cen MT"/>
            </a:endParaRPr>
          </a:p>
        </p:txBody>
      </p:sp>
      <p:sp>
        <p:nvSpPr>
          <p:cNvPr id="352" name="Nadpis 1"/>
          <p:cNvSpPr/>
          <p:nvPr/>
        </p:nvSpPr>
        <p:spPr>
          <a:xfrm>
            <a:off x="900000" y="333360"/>
            <a:ext cx="7417080" cy="1828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bddc3"/>
                </a:solidFill>
                <a:latin typeface="Tw Cen MT"/>
              </a:rPr>
              <a:t>PEDAGOGICKÁ FAKULTA ZČU V PLZNI KATEDRA MATEMATIKY, FYZIKY A TECHNICKÉ VÝCHOV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Úvod</a:t>
            </a:r>
            <a:endParaRPr b="0" lang="en-US" sz="4400" spc="-1" strike="noStrike">
              <a:solidFill>
                <a:srgbClr val="775f55"/>
              </a:solidFill>
              <a:latin typeface="Tw Cen MT"/>
            </a:endParaRPr>
          </a:p>
        </p:txBody>
      </p:sp>
      <p:sp>
        <p:nvSpPr>
          <p:cNvPr id="354" name=""/>
          <p:cNvSpPr txBox="1"/>
          <p:nvPr/>
        </p:nvSpPr>
        <p:spPr>
          <a:xfrm>
            <a:off x="612720" y="1600200"/>
            <a:ext cx="8153280" cy="478152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Tématem bakalářské práce bylo vytvoření výukového elektronického materiálu pro simulační program Multisim NI 10.</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Výukový materiál je určen pro studenty, kteří se s uvedeným simulačním programem setkají ve výuc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Po prostudování celého výukového materiálu by měl být student schopen ovládat simulační program, vytvářet elektronické obvody a tyto obvody také simulov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Multisim NI 10</a:t>
            </a:r>
            <a:endParaRPr b="0" lang="en-US" sz="4400" spc="-1" strike="noStrike">
              <a:solidFill>
                <a:srgbClr val="775f55"/>
              </a:solidFill>
              <a:latin typeface="Tw Cen MT"/>
            </a:endParaRPr>
          </a:p>
        </p:txBody>
      </p:sp>
      <p:sp>
        <p:nvSpPr>
          <p:cNvPr id="356" name=""/>
          <p:cNvSpPr txBox="1"/>
          <p:nvPr/>
        </p:nvSpPr>
        <p:spPr>
          <a:xfrm>
            <a:off x="612720" y="1599840"/>
            <a:ext cx="8153280" cy="485316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Simulační program Multisim NI 10 je určen k simulaci a analýze elektronických obvodů, které v programu sestavíme pomocí součástek.</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Simulační program Multisim NI 10 je v mnoha ohledech virtuální simulací elektronické laboratoř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Cílem autorů simulačního programu bylo, aby se součástky a přístroje co nejvíce blížily své reálné předloz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Multisim je vhodný nejen pro výuku elektrotechniky, ale často jej využívají i firmy zabývající se elektrotechnikou.</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Multisim NI 10</a:t>
            </a:r>
            <a:endParaRPr b="0" lang="en-US" sz="4400" spc="-1" strike="noStrike">
              <a:solidFill>
                <a:srgbClr val="775f55"/>
              </a:solidFill>
              <a:latin typeface="Tw Cen MT"/>
            </a:endParaRPr>
          </a:p>
        </p:txBody>
      </p:sp>
      <p:pic>
        <p:nvPicPr>
          <p:cNvPr id="358" name="Obrázek 4" descr="m.png"/>
          <p:cNvPicPr/>
          <p:nvPr/>
        </p:nvPicPr>
        <p:blipFill>
          <a:blip r:embed="rId1"/>
          <a:stretch/>
        </p:blipFill>
        <p:spPr>
          <a:xfrm>
            <a:off x="468360" y="1773360"/>
            <a:ext cx="5070600" cy="3598920"/>
          </a:xfrm>
          <a:prstGeom prst="rect">
            <a:avLst/>
          </a:prstGeom>
          <a:ln w="0">
            <a:noFill/>
          </a:ln>
        </p:spPr>
      </p:pic>
      <p:pic>
        <p:nvPicPr>
          <p:cNvPr id="359" name="Obrázek 18" descr="us_b.bmp"/>
          <p:cNvPicPr/>
          <p:nvPr/>
        </p:nvPicPr>
        <p:blipFill>
          <a:blip r:embed="rId2"/>
          <a:stretch/>
        </p:blipFill>
        <p:spPr>
          <a:xfrm>
            <a:off x="3924360" y="2852640"/>
            <a:ext cx="4819680" cy="36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Zpracování výukového materiálu</a:t>
            </a:r>
            <a:endParaRPr b="0" lang="en-US" sz="4400" spc="-1" strike="noStrike">
              <a:solidFill>
                <a:srgbClr val="775f55"/>
              </a:solidFill>
              <a:latin typeface="Tw Cen MT"/>
            </a:endParaRPr>
          </a:p>
        </p:txBody>
      </p:sp>
      <p:sp>
        <p:nvSpPr>
          <p:cNvPr id="361" name=""/>
          <p:cNvSpPr txBox="1"/>
          <p:nvPr/>
        </p:nvSpPr>
        <p:spPr>
          <a:xfrm>
            <a:off x="612720" y="1600200"/>
            <a:ext cx="8153280" cy="456552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Výukový materiál byl vytvořen pomocí programu ProAuthor, který je vyvíjen na Západočeské univerzitě v Plzni.</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Program umožňuje vkládání výukových článků a dalších komponent (animací, obrázků, souborů), z kterých vygeneruje výukový materiál v elektronické podobě.</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Tw Cen MT"/>
              </a:rPr>
              <a:t>Tento výukový materiál může být následně umístěn na internetu nebo na paměťovém médiu.</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Struktura výukového materiálu</a:t>
            </a:r>
            <a:endParaRPr b="0" lang="en-US" sz="4400" spc="-1" strike="noStrike">
              <a:solidFill>
                <a:srgbClr val="775f55"/>
              </a:solidFill>
              <a:latin typeface="Tw Cen MT"/>
            </a:endParaRPr>
          </a:p>
        </p:txBody>
      </p:sp>
      <p:sp>
        <p:nvSpPr>
          <p:cNvPr id="363" name=""/>
          <p:cNvSpPr txBox="1"/>
          <p:nvPr/>
        </p:nvSpPr>
        <p:spPr>
          <a:xfrm>
            <a:off x="612720" y="1599840"/>
            <a:ext cx="8153280" cy="485316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ýukový materiál obsahuje jednotlivé kapitoly, ve kterých nalezneme výukové články, cvičení a autotesty.</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ýukové články jsou základním zdrojem informací. Představují studentům základní postupy a možnosti programu, které jsou potřebné pro jeho ovládání.</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Zařazení článků je zvoleno nejen podle logické návaznosti, ale také podle obtížnosti. </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V závěru kapitol lze nalézt cvičení, která zopakují některé vybrané postupy.</a:t>
            </a:r>
            <a:endParaRPr b="0" lang="en-US" sz="27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Tw Cen MT"/>
              </a:rPr>
              <a:t>Autotesty zopakují především pojmy, se kterými se student při studiu článků seznámi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775f55"/>
                </a:solidFill>
                <a:latin typeface="Tw Cen MT"/>
              </a:rPr>
              <a:t>Závěr</a:t>
            </a:r>
            <a:endParaRPr b="0" lang="en-US" sz="4400" spc="-1" strike="noStrike">
              <a:solidFill>
                <a:srgbClr val="775f55"/>
              </a:solidFill>
              <a:latin typeface="Tw Cen MT"/>
            </a:endParaRPr>
          </a:p>
        </p:txBody>
      </p:sp>
      <p:sp>
        <p:nvSpPr>
          <p:cNvPr id="365" name=""/>
          <p:cNvSpPr txBox="1"/>
          <p:nvPr/>
        </p:nvSpPr>
        <p:spPr>
          <a:xfrm>
            <a:off x="612720" y="1599840"/>
            <a:ext cx="8153280" cy="492444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w Cen MT"/>
              </a:rPr>
              <a:t>Simulační program Multisim NI 10 obsahuje velké množství možností a jeho ovládání může být zpočátku obtížné. Výukový materiál usnadní studentům seznámení s tímto programem a bude sloužit také jako zdroj informací.</a:t>
            </a:r>
            <a:endParaRPr b="0" lang="en-US" sz="28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w Cen MT"/>
              </a:rPr>
              <a:t>Informace obsažené ve výukovém materiálu by měly být dostačující pro zvládnutí základního ovládání programu. Vyučující se již ve výuce nebude nemuset zabývat ovládáním programu, ale může se zaměřit především na simulaci elektronických obvodů.</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04:37Z</dcterms:created>
  <dc:creator>Pavel Benajtr</dc:creator>
  <dc:description/>
  <dc:language>en-US</dc:language>
  <cp:lastModifiedBy>Pavel Benajtr</cp:lastModifiedBy>
  <dcterms:modified xsi:type="dcterms:W3CDTF">2011-05-23T22:05:31Z</dcterms:modified>
  <cp:revision>1</cp:revision>
  <dc:subject/>
  <dc:title>Multisim – výukový elektronický materiál</dc:title>
</cp:coreProperties>
</file>