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AF03C-6E5C-4373-A251-B3EB31D8B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91EAA-F255-4CD0-B687-CA2168B15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CBCAD-357A-49C7-A944-0FB359F23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279FD-41D3-494E-8358-FE0FC5E2A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1FA5F-9992-4422-93B4-CA13179C0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99F06-B5D1-4EB6-9C75-C0143650F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4FB0F-38B3-4E49-8551-6CF3F0BA5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A6BC1-69AC-44E0-8ECF-1E9A02AC2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6AB43-DC5D-4BB4-AA8F-FBF465B72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AC034-AFFF-4183-9D39-CC3BE70EC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9E29D-A0C1-4A30-975E-661EE957A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4991E-5882-40D9-B8D6-290225408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CA456-A0AC-4F21-A3D2-63482DF07F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121932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br>
              <a:rPr sz="5400"/>
            </a:b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Obnovitelné zdroje energie – vodní elektrárny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Bc. Petra Svobodová         ZČ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Turbín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10480" cy="533412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Times New Roman"/>
              </a:rPr>
              <a:t>18.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Francisova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Kaplano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imes New Roman"/>
              </a:rPr>
              <a:t>(přetlaková)</a:t>
            </a:r>
            <a:r>
              <a:rPr b="0" lang="cs-CZ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ffffff"/>
                </a:solidFill>
                <a:latin typeface="Times New Roman"/>
              </a:rPr>
              <a:t>(přetlaková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Peltonova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Bánk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imes New Roman"/>
              </a:rPr>
              <a:t>(rovnotlaká)</a:t>
            </a:r>
            <a:r>
              <a:rPr b="0" lang="cs-CZ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ffffff"/>
                </a:solidFill>
                <a:latin typeface="Times New Roman"/>
              </a:rPr>
              <a:t>(rovnotlaká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95880" y="1447920"/>
            <a:ext cx="2895840" cy="21589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1752480" y="1447920"/>
            <a:ext cx="2895840" cy="218916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2133720" y="3886200"/>
            <a:ext cx="2179440" cy="27432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4"/>
          <a:stretch/>
        </p:blipFill>
        <p:spPr>
          <a:xfrm>
            <a:off x="6095880" y="4191120"/>
            <a:ext cx="2895840" cy="206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ŠV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33160" y="1447920"/>
            <a:ext cx="8305560" cy="502920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V předcházející části prezentace jsem se zabývala různými zdroji energie soustředila jsem se hlavně na energii vodní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uto problematiku bych chtěla začlenit do výuky předmětu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Pracovní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výchov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na základních školách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Školský vzdělávací program toto umožňuje - v  současné době si každá škola tvoří svůj vlastní vzdělávací program a to je stav velmi vhodný pro můj návrh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Jsem toho názoru, že žáci by se s problémy životního prostředí měli seznamovat již na základní škole. Ekologie a ochrana životního prostředí je novým fenoménem naší doby a děti by se v této oblasti měly dobře orientovat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ŠV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160" y="1447920"/>
            <a:ext cx="8458200" cy="502920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 u="sng">
                <a:solidFill>
                  <a:srgbClr val="ffffff"/>
                </a:solidFill>
                <a:uFillTx/>
                <a:latin typeface="Times New Roman"/>
              </a:rPr>
              <a:t>Tématické okruh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2 stupeň: Práce s technickými materiá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Desing a konstruován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Pěstitelské práce, chovatelstv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Provoz a údržba domácnos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 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Příprava pokrmů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Svět prá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Práce s laboratorní techniko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Využití digitálních technologi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ŠV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33160" y="1447920"/>
            <a:ext cx="8458200" cy="502920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edle těchto osmi tradičních modulů navrhuji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modul devát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lavní téma: obnovitelné a neobnovitelné zdroje energi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8. a 9. třída – zralost žák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Modul 9 Technická ekolog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9.1 Elektrotechnik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9.2 Neobnovitelné zdroje energ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9.3 Obnovitelné zdroje energ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9.4 Ochrana životního prostředí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Technická ekolog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610840" cy="525780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Název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: Elektrotechnik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Doporučený ročník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: 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Charakter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.: Žák se seznámí se základy problematiky, bude umět použít technické značky a pojm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Cíl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Žák bude umět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- popsat základní vlastnosti pojmů, převody jednotek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Žák bude znát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- elektrotechnické značky a jednotky, postupy měření, vlastnosti technických prvků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Základní pojmy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: Odpor, kondenzátor, cívka, napětí, voltmetr, ampérmetr, wattmetr, paralelní a sériové zapojen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Bez%20názvu" descr=""/>
          <p:cNvPicPr/>
          <p:nvPr/>
        </p:nvPicPr>
        <p:blipFill>
          <a:blip r:embed="rId1"/>
          <a:stretch/>
        </p:blipFill>
        <p:spPr>
          <a:xfrm>
            <a:off x="990720" y="5715000"/>
            <a:ext cx="1143000" cy="779400"/>
          </a:xfrm>
          <a:prstGeom prst="rect">
            <a:avLst/>
          </a:prstGeom>
          <a:ln w="0">
            <a:noFill/>
          </a:ln>
        </p:spPr>
      </p:pic>
      <p:pic>
        <p:nvPicPr>
          <p:cNvPr id="86" name="Bez%20názvu" descr=""/>
          <p:cNvPicPr/>
          <p:nvPr/>
        </p:nvPicPr>
        <p:blipFill>
          <a:blip r:embed="rId2"/>
          <a:stretch/>
        </p:blipFill>
        <p:spPr>
          <a:xfrm>
            <a:off x="2438280" y="5715000"/>
            <a:ext cx="1162080" cy="771480"/>
          </a:xfrm>
          <a:prstGeom prst="rect">
            <a:avLst/>
          </a:prstGeom>
          <a:ln w="0">
            <a:noFill/>
          </a:ln>
        </p:spPr>
      </p:pic>
      <p:pic>
        <p:nvPicPr>
          <p:cNvPr id="87" name="Bez%20názvu" descr=""/>
          <p:cNvPicPr/>
          <p:nvPr/>
        </p:nvPicPr>
        <p:blipFill>
          <a:blip r:embed="rId3"/>
          <a:stretch/>
        </p:blipFill>
        <p:spPr>
          <a:xfrm>
            <a:off x="4191120" y="5486400"/>
            <a:ext cx="1371600" cy="1009800"/>
          </a:xfrm>
          <a:prstGeom prst="rect">
            <a:avLst/>
          </a:prstGeom>
          <a:ln w="0">
            <a:noFill/>
          </a:ln>
        </p:spPr>
      </p:pic>
      <p:pic>
        <p:nvPicPr>
          <p:cNvPr id="88" name="Bez%20názvu" descr=""/>
          <p:cNvPicPr/>
          <p:nvPr/>
        </p:nvPicPr>
        <p:blipFill>
          <a:blip r:embed="rId4"/>
          <a:stretch/>
        </p:blipFill>
        <p:spPr>
          <a:xfrm>
            <a:off x="6019920" y="5726160"/>
            <a:ext cx="2819160" cy="6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Technická ekolog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610840" cy="525780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Název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: Neobnovitelné zdroje energie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Doporučený ročník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: 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Charakter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.: Žák získá informace o možnostech využití energie z neobnovitelných zdrojů (uhlí, ropa, zemní plyn)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Cíl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Žák bude umět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- vyjmenovat neobnovitelné zdroje energie, určit vlastnosti neobnovitelných zdrojů energie, vyjmenovat výhody a nevýhod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Žák bude znát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- hlavní (důležité) vlastnosti neobnovitelných zdrojů energie, druhy neobnovitelných zdrojů energie, důvody hledání jiných možností, postupy a možnosti, jak snižovat spotřebu energi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Základní pojmy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: Uhlí – černé, hnědé, ropa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zemní plyn, těžba, elektrárn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Bez%20názvu" descr=""/>
          <p:cNvPicPr/>
          <p:nvPr/>
        </p:nvPicPr>
        <p:blipFill>
          <a:blip r:embed="rId1"/>
          <a:stretch/>
        </p:blipFill>
        <p:spPr>
          <a:xfrm>
            <a:off x="5486400" y="4648320"/>
            <a:ext cx="3143160" cy="20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Technická ekolog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610840" cy="525780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Název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: Obnovitelné zdroje energi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Doporučený ročník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: 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Charakter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.: Žák získá další informace o možnostech získání energie z obnovitelných zdrojů. Vlastnosti OZE. Důvody využívání OZE. Snižování spotřeby. Druhy OZ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Cíl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Žák bude umět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- vyjmenovat druhy OZE, říct vlastnosti OZE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důvodnit využívání OZE, vyjmenovat klady a zápory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orovnat výkony elektráren (MW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Žák bude znát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- vlastnosti OZE, druhy OZE, důvo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využívání, rozdíl mezi obnovitelnými a neobnovitelným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zdroji energ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Základní pojmy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: Energie – vodní, větrná, sluneční, turbín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Bez%20názvu" descr=""/>
          <p:cNvPicPr/>
          <p:nvPr/>
        </p:nvPicPr>
        <p:blipFill>
          <a:blip r:embed="rId1"/>
          <a:stretch/>
        </p:blipFill>
        <p:spPr>
          <a:xfrm>
            <a:off x="6781680" y="3200400"/>
            <a:ext cx="222912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Technická ekolog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610840" cy="525780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Název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: Ochrana životního prostředí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Doporučený ročník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: 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Charakter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.: Žáci si prohloubí znalosti o zdrojích energie a poznají další informace o energetické situaci. Moderní způsoby využití obnovitelných zdrojů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Cíl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Žák bude umět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- rozeznat zdroje energie, vysvětlit pojem recyklace, odůvodnit třídění odpadů, vyjmenovat výhody a nevýhody recyklace a třídění odpadů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Žák bude znát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- vlastnosti moderních způsobů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využití zdrojů energie, druhy moderních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způsobů využití zdrojů energi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Základní pojmy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: elektrárna, kotel, recyklace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biomasa, bioplyn, brikety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Bez%20názvu1" descr=""/>
          <p:cNvPicPr/>
          <p:nvPr/>
        </p:nvPicPr>
        <p:blipFill>
          <a:blip r:embed="rId1"/>
          <a:stretch/>
        </p:blipFill>
        <p:spPr>
          <a:xfrm>
            <a:off x="5486400" y="4267080"/>
            <a:ext cx="3429000" cy="21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533160" y="761760"/>
            <a:ext cx="8305560" cy="571500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ýuka tohoto předmětu bude realizována i formou exkurzí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eorie + prax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alizace: třídní učitel + učitel fyziky, zeměpisu, biologie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Bez%20názvu1" descr=""/>
          <p:cNvPicPr/>
          <p:nvPr/>
        </p:nvPicPr>
        <p:blipFill>
          <a:blip r:embed="rId1"/>
          <a:stretch/>
        </p:blipFill>
        <p:spPr>
          <a:xfrm>
            <a:off x="2286000" y="3271680"/>
            <a:ext cx="4267080" cy="32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Exkur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10480" cy="502920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Elektrárna Vydra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Čeňkova pila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Černé jezer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Kalikovský mlýn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Přehrada Hracholusky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609480" y="1828800"/>
            <a:ext cx="2514600" cy="18842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3505320" y="1828800"/>
            <a:ext cx="2476440" cy="18590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6324480" y="1905120"/>
            <a:ext cx="2476800" cy="18558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990720" y="4419720"/>
            <a:ext cx="3504960" cy="17190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5"/>
          <a:stretch/>
        </p:blipFill>
        <p:spPr>
          <a:xfrm>
            <a:off x="5029200" y="4419720"/>
            <a:ext cx="2209680" cy="166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Úvo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848720" cy="502920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 diplomové práci se zaměřuji na výrobu elektrické energie z obnovitelných zdrojů a soustřeďuji se hlavně na vodní energii a její využití v  regionu západních Čech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ejdůležitější částí předkládané práce je kapitola, ve které se zabývám Školským vzdělávacím programem a zvažuji možnosti uplatnění těchto zajímavých informací ve školní látce druhého stupně základních ško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533160" y="685440"/>
            <a:ext cx="8305560" cy="579132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derní doba vyžaduje moderní přístupy a žáci musí být připraveni pro život ve vyspělé industriální společnosti, kde velkou roli hraje energetika, ekologie a péče o kvalitní životní prostředí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 našem přetechnizovaném světě je nutno už žáky základních škol učit úctě a pokoře k přírodě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ýchova k ekologickému myšlení by měla být součástí všech vyučovaných předmětů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ozitivně to ovlivní kvalitu našeho života a i života následujících generací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533160" y="1447920"/>
            <a:ext cx="8305560" cy="502920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Děkuji za pozornos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Obnovitelné zdroje energ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686800" cy="502920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odní energi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Sluneční energi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Větrná energie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otermální energi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iomasa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429000" y="1905120"/>
            <a:ext cx="2666880" cy="19875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6324480" y="1905120"/>
            <a:ext cx="2667240" cy="19890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4495680" y="4495680"/>
            <a:ext cx="2667240" cy="19908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533520" y="1905120"/>
            <a:ext cx="2590560" cy="1946160"/>
          </a:xfrm>
          <a:prstGeom prst="rect">
            <a:avLst/>
          </a:prstGeom>
          <a:ln w="0">
            <a:noFill/>
          </a:ln>
        </p:spPr>
      </p:pic>
      <p:pic>
        <p:nvPicPr>
          <p:cNvPr id="51" name="Bez%20názvu" descr=""/>
          <p:cNvPicPr/>
          <p:nvPr/>
        </p:nvPicPr>
        <p:blipFill>
          <a:blip r:embed="rId5"/>
          <a:stretch/>
        </p:blipFill>
        <p:spPr>
          <a:xfrm>
            <a:off x="1371600" y="4495680"/>
            <a:ext cx="2590920" cy="19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Obnovitelné zdroje energ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848720" cy="502920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ýho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generativn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evyčerpateln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Žádné zplodin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enáročná obsluha zařízen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evýho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Závislé na počasí (vítr, slunc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skutabilní vzhled kraji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ejasná dotační politika stá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Vodní energ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229600" cy="502920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Výhod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egenerativní – obnoviteln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vyčerpateln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bezodpadová – žádné zplodi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ároky na obsluhu a údržbu jsou minimáln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puštění během několika min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okrytí okamžitých nároků na výrobu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lektrické energie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kundární zdroje energie, které jsou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oplňkem jiných elektráren (uhelné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vodní turbíny patří k motorům s největší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účinností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5562720" y="1371600"/>
            <a:ext cx="3429000" cy="2575080"/>
          </a:xfrm>
          <a:prstGeom prst="rect">
            <a:avLst/>
          </a:prstGeom>
          <a:ln w="0">
            <a:noFill/>
          </a:ln>
        </p:spPr>
      </p:pic>
      <p:pic>
        <p:nvPicPr>
          <p:cNvPr id="57" name="Bez%20názvu" descr=""/>
          <p:cNvPicPr/>
          <p:nvPr/>
        </p:nvPicPr>
        <p:blipFill>
          <a:blip r:embed="rId2"/>
          <a:stretch/>
        </p:blipFill>
        <p:spPr>
          <a:xfrm>
            <a:off x="5562720" y="4114800"/>
            <a:ext cx="3423960" cy="25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Vodní energ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848720" cy="502920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Nevýhod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závislá na počasí a ročním obdob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ochází ke změně průtočného množství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zónní zdroje energ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ro výstavbu velkých vodních akumulačních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lektráren je nutné zatopit veliké území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ena zařízení je vysok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výstavba je časově náročná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řehradní hráze a jezy brání běžnému lodnímu provoz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utnost vybudovat systém plavebních komor, resp. zdymade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fektivita – velké řeky, vysoké a rychlé spád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vliv na energetickou situaci v ČR je malý (Vltava, Dyj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5791320" y="1981080"/>
            <a:ext cx="320040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Vodní energ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229600" cy="541008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ffffff"/>
                </a:solidFill>
                <a:uFillTx/>
                <a:latin typeface="Times New Roman"/>
              </a:rPr>
              <a:t>Princip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mechanická energie proudící vody se mění na energii elektrickou, která se transformuje a odvádí do míst spotřeb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ffffff"/>
                </a:solidFill>
                <a:uFillTx/>
                <a:latin typeface="Times New Roman"/>
              </a:rPr>
              <a:t>Ty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jezové (průtokové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derivační (náhonové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přehradní (akumulační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přílivov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přečerpávací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malé (do 10 MW), střední (10 MW -200 MW), velké (nad 200 MW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Bez%20názvu1" descr=""/>
          <p:cNvPicPr/>
          <p:nvPr/>
        </p:nvPicPr>
        <p:blipFill>
          <a:blip r:embed="rId1"/>
          <a:stretch/>
        </p:blipFill>
        <p:spPr>
          <a:xfrm>
            <a:off x="3505320" y="2590920"/>
            <a:ext cx="495288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Přečerpávací elektrárn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848720" cy="502920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speciální typ, která slouží ke skladování (akumulaci) elektrické energ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řeší problém rozdílné spotřeby elektrické energie (den, no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dvě vodní nádrže (horní, dolní), spojeny spádovým potrubím o velkém průměr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Dlouhé stráně, Štěchovice, Černé jezero, Daleš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Bez%20názvu1" descr=""/>
          <p:cNvPicPr/>
          <p:nvPr/>
        </p:nvPicPr>
        <p:blipFill>
          <a:blip r:embed="rId1"/>
          <a:stretch/>
        </p:blipFill>
        <p:spPr>
          <a:xfrm>
            <a:off x="5486400" y="3429000"/>
            <a:ext cx="2341440" cy="3124080"/>
          </a:xfrm>
          <a:prstGeom prst="rect">
            <a:avLst/>
          </a:prstGeom>
          <a:ln w="0">
            <a:noFill/>
          </a:ln>
        </p:spPr>
      </p:pic>
      <p:pic>
        <p:nvPicPr>
          <p:cNvPr id="67" name="Bez%20názvu1" descr=""/>
          <p:cNvPicPr/>
          <p:nvPr/>
        </p:nvPicPr>
        <p:blipFill>
          <a:blip r:embed="rId2"/>
          <a:stretch/>
        </p:blipFill>
        <p:spPr>
          <a:xfrm>
            <a:off x="838080" y="3432240"/>
            <a:ext cx="4191120" cy="30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Historie vodní energ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8153280" cy="502920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Vývoj civilizace je neodmyslitelně spojen s historií využívání vodní energ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rvní využitá energie (Egypt - 3000 př.n.l.) – přeměna vodní energie na mechanickou práci - využití pro čerpání vody do závlahových kanálů (síla:lidská, zvířecí, vodní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vodní kolo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(Balkánský poloostrov 2.st.př.n.l.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- nejstarší vodní motor (dnes vodní turbíny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- rozšířeno do celého světa jako všeobecně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využívaný energetický stro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lýny - mletí obilí, valchování sukna, drcení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ádry, výroba střelného prachu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6210360" y="2971800"/>
            <a:ext cx="280188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6T15:25:00Z</dcterms:created>
  <dc:creator>Petra Svobodová</dc:creator>
  <dc:description/>
  <dc:language>en-US</dc:language>
  <cp:lastModifiedBy>petulka</cp:lastModifiedBy>
  <dcterms:modified xsi:type="dcterms:W3CDTF">2011-05-23T17:53:45Z</dcterms:modified>
  <cp:revision>88</cp:revision>
  <dc:subject/>
  <dc:title>Možnosti využití obnovitelných zdrojů energie v ČR</dc:title>
</cp:coreProperties>
</file>