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9CF-107A-4BA3-8A5C-AD6BFD07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05C-FD5B-41A2-AEE2-617F97EF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08CF-42C2-4F7F-B1E5-0B638CAB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0F8F-D1E0-4BF7-BA25-5BC5F66B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34E3-F24E-44BE-AEC1-A1F99C18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DAE5-1532-412D-8D1F-8F64E9BA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9202-32B8-401D-9C64-C3587ED8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649A-40C3-4FC0-A078-9AC084F4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5FE7-5916-4D5F-986A-EA51056B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3621-FF71-451E-ACFD-D6DBA889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278F-8C56-4F58-A905-83159F33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6235-3C85-4EB7-85F0-A8C3A20B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E003-ADEC-4AD3-81B6-74DAA4AC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FB7F-CE65-4F20-86F7-EF7E0C5B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EA37-8067-4447-B17D-2B5A08DB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E89B-372E-45F0-A803-DEC491B4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F445-811E-4DF6-AE42-D1721702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B89194-DC4A-4956-9308-C2FF5E82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647331-E039-47EF-8A4B-AB181A0D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68D14-75E1-43DF-9A2B-584FF3FE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48792-6C2C-401C-A5BF-983A2EE6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D54A4-F5A3-4A75-90AA-79FFEF16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CCB4-802C-4048-A010-488BA231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F7F9F-1323-468F-BBAD-55D7C80D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0F040-8FAA-459C-89D1-3DE2CFDA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795B7-ADCD-4B2D-8546-C1A6CEF5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7DA2A2-88FB-4C06-99DC-55DAE501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E26B78-3B02-4B5A-8D87-20CEF7C3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996E2-149B-42D2-A71E-6220939B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9B5D32-6CB4-4100-938A-EEE58212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35AED-9F4E-4B81-BBB2-E88ED564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2CFD3-9FD5-41F6-B962-A9162DA7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0A24F-DADF-4902-AE2C-7A9503B8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CA2F-3A29-447A-9B34-28414A3E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FF376-725D-448B-9503-A92C513C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B16F9-1497-4328-9AE8-A0246307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E5DD8-CCD4-43AC-A759-DBB4BF3A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9C9B3-AE84-4647-A65B-B213C930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CAE89-4603-4265-A808-322590EC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2901D-38F8-48F0-9D93-2E048E15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295B1-74ED-4C02-AFB2-C4DA79F7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5167C-C3BE-4E43-A655-2783D533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0B56F-ED5B-445F-9D57-EBF0B599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29E434-B3D0-4273-858C-F13DF25A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1A8F-6AEC-45E7-9765-1D1CB59F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8ECFF9-9622-4DD2-BEF3-8C6880FF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FC619E-0828-45C8-AD84-C30CEC4F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9045D3-5573-414F-85B9-65DAFBEE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32FA4C-CA0F-4BF9-943D-D60248AD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A4A912-CD6F-40EC-A122-4883689A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64D590-38FB-4DD0-9697-10078963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58B067-DC7C-4396-9799-23A5149E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B0B634-50C8-46D8-8130-D45BA41D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BDEF02-1A08-4E10-A2E9-5EFA4DEF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DC6A1D-BD47-46D2-9300-AEB42F2F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764-BA41-4D0A-B91B-CB27DF74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2F16B-13EB-4546-ACE8-4C01CB43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3C143A-7F21-4867-B460-7692907B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D03852-1BEC-4EB1-9530-C7E4572D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0DDA21-B97A-41E9-AA45-AADCE3CA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A06D07-DE39-4E8B-9D9C-A5DFDFF7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7F6D6D-FB56-4DC4-9EC4-FF458D70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9E12DE-A14D-4B08-86AA-1AD35E43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8D7FEA-A268-485E-A9D1-5D8E2280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5EE35A-039D-4CD4-9D08-0EA48DB0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9B3451-5F1E-4F15-A3D6-D1D5AC42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656-07B1-4770-AA61-B8C285D8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7610AB-EE35-4799-B4DF-A8AFE5CC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9D0EBA-217A-47EE-B921-24674BC8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1130DE-8441-413B-A389-2C5955DE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A2B311-B456-4F39-A631-4F6DCF3D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3DB77B-6AEA-47FC-A5CE-56FCA997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349695-32F5-4A7C-8920-321E42A8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243F54-3769-4E87-84F2-1914B1E2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3875D0-1CE8-40AA-B1A0-12BF51B7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A44980-A4A3-4D0B-A452-B7E3E4E0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8341A0-4D45-40DD-9476-C18F5622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5533-6E3E-4AD5-A9BA-87EAAA83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5EB78F-9FEB-4768-AD23-F88ACFCD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F66F60-2324-42CF-AC5E-1D5BB3DE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D89192-A910-4FA8-841A-B95DC3DD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35A046-3D6B-4AA0-9D9E-BA378DBF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66B73A-AD85-4676-B73C-402DA9F8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E8B-170B-48A9-BB01-FB311DA8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F8D7-8B1B-47D9-9963-A8C340C62B92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4135-8A0F-4907-A2A5-9F3F24840BC4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CE51-02FD-47F3-92B1-EC98A12A39D4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02B5-7D80-45D6-AFE9-426853357D80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B5A1-D96C-472B-86EC-852A72669A03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CF93-5BD8-4FF5-A08D-0DEABF1DD4F6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71E5-79F5-496C-AEA0-4C995960C988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UČEBNÍ POMŮCKA PRO VÝUKU DIGITÁLNÍ TECHNIK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Tomáš Podhrázký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ovéPole 5"/>
          <p:cNvSpPr/>
          <p:nvPr/>
        </p:nvSpPr>
        <p:spPr>
          <a:xfrm>
            <a:off x="2571840" y="428760"/>
            <a:ext cx="557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Masarykova Univerz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Pedagogická fak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Katedra Technické a Informační výcho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ÚVO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čební pomůcka pro výuku digitální techniky, vznikla za účelem praktické části k bakalářské prác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čební pomůcka je spíše směřovaná k výuce digitální (číslicové) techniky na základní škol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VYUŽITÍ POMŮCK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užití pro výuku digitální tech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2786040" y="2571840"/>
          <a:ext cx="3286080" cy="3292560"/>
        </p:xfrm>
        <a:graphic>
          <a:graphicData uri="http://schemas.openxmlformats.org/drawingml/2006/table">
            <a:tbl>
              <a:tblPr/>
              <a:tblGrid>
                <a:gridCol w="873000"/>
                <a:gridCol w="770040"/>
                <a:gridCol w="822240"/>
                <a:gridCol w="820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TextovéPole 4"/>
          <p:cNvSpPr/>
          <p:nvPr/>
        </p:nvSpPr>
        <p:spPr>
          <a:xfrm>
            <a:off x="2786040" y="221472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vdivostní tabulka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ovéPole 5"/>
          <p:cNvSpPr/>
          <p:nvPr/>
        </p:nvSpPr>
        <p:spPr>
          <a:xfrm>
            <a:off x="1143000" y="600084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. Log. 1 = stisknuté tlačítko; Log. 0 = nestisknuté tlačít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VYUŽITÍ POMŮCK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599840"/>
            <a:ext cx="746748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užití v digitální techn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entury Schoolbook"/>
              </a:rPr>
              <a:t>Binární číselná sousta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entury Schoolbook"/>
              </a:rPr>
              <a:t>Sčítání binární soustav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entury Schoolbook"/>
              </a:rPr>
              <a:t>Binární signá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2214720" y="3929040"/>
            <a:ext cx="4524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VYUŽITÍ POMŮCK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Eletrotechnika, Elektronika (práce v elektro dílnách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ráce v dílnách (dřevo, papír, plasty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ZÁVĚR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ařízení slouží k osvojení základních principů digitální techniky, především logický součet a binární soustav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PROSTOR PRO DOTAZ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19:23:06Z</dcterms:created>
  <dc:creator>Tomáš</dc:creator>
  <dc:description/>
  <dc:language>en-US</dc:language>
  <cp:lastModifiedBy>Tomáš</cp:lastModifiedBy>
  <dcterms:modified xsi:type="dcterms:W3CDTF">2011-05-24T08:28:29Z</dcterms:modified>
  <cp:revision>25</cp:revision>
  <dc:subject/>
  <dc:title>Učební pomůcka pro výuku digitální techniky na ZŠ</dc:title>
</cp:coreProperties>
</file>