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161B-8AC5-40E3-A237-9B4519F3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8AAB-B8FE-4C07-B1A6-48BAE5D3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D4AA-6D1C-4246-A692-BE990DA4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331F-2F96-44F0-AF2D-255563B3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5293-2A4B-4599-8885-19819A3C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1D2B-AF81-4769-8A3F-6DB314C8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7684-54F0-45B7-BD4F-9D0946DB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DA8D-133A-4533-8D24-4DBB5E27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5430-C70C-4720-BD29-9A2B94D6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1576-057B-4040-B4A4-07FCA1CC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8A14-F3AF-4CB2-AC77-B68C6798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ED4A-8269-40EE-8C5C-15FF6538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3805-24C8-474E-97BB-98CFD845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B1AE-4900-41B2-9115-1357217A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CBE4-C13B-40D0-B27C-E2F1B816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E0B9-81DE-44DB-B905-6364BB6F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DD8D-8081-4B1B-BA58-49319E19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5ABA2-6C0E-430B-8BF3-5EFC693D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DE4E1-BF2F-45FE-BE22-B4637275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EAAA1-2F14-4C29-8D46-5D64DA3A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798B5-99F2-44A9-A0BA-18D18A25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C0046-8AE2-44EC-A103-0517786D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A0A7-42F7-4850-AE04-AE2CD2D1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1AE85-2E21-4DD6-A6A1-629C8423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184BC-41AD-4C5F-B90F-4E5278CC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C85F5-F7D1-4776-A531-5DA6FAE4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346D7-7F34-4F4B-A883-CCA9DCAE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B95B5-9B65-4556-8C08-919D115C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D6350-DD95-42B7-8EA6-4CD7545D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7CF8E-0E42-4992-A246-67C920A7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B4910-BDA4-4A13-982E-7AF0B10E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D9458-B8B5-4067-9E6F-BB1257C3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BFF03-B93F-40EF-A94E-C5FAC8A8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70E2-0BF8-4266-93FA-CB3B294B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574B7-F1C6-427B-A67C-13F18887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58CA9-DD07-4D22-929E-9E7589FA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8F1EB-0BBE-4580-A086-A9003752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3C498-77D0-4765-A416-F5E4C72C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0410E-B9B0-42AC-B504-01075932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FF6B3-777A-496C-9F44-0F92998A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9A10D-A29B-4F73-A8B0-AD206709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13570-0A0D-4869-80D6-21F14C7A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89211-6FF0-44B7-B386-BB01F37A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F8520-62FA-46D9-9465-706C53EE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4CAD-2A78-4B6C-B7DB-EFC5FFF3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0EE0E-F79D-4D14-A1E7-D5C6E41D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73EF9-370F-4B60-B11E-F9C1CF88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7808B-0471-4480-825D-E0E6FB79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FF30E-0E18-4D9A-B1DC-3F595444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2E85D-0F0F-4F18-834A-8CEAF1F6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69AB2-3A46-4B36-A6BF-6E78EFE5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FC71D-9ECF-484F-8199-4D3AB4D6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5CCA7-B7B2-4FBE-AF92-EFB99257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719D5-E135-4011-A37F-D83AFF48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07748-DA2B-4942-BE73-695F2E9D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2B5A-F471-4CE5-995A-E53F2C9E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E4C96-11B0-46E3-A6CC-CD8AAADE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822DC-3B0B-4C8D-837E-82D4234C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FF8BD-4583-43AF-81DC-F9FFCB29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BC6BD-41EF-4A78-8D89-FB64151B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5486D-7A2F-4F6D-90DB-CDE40AE8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5727E-E3FA-4D20-87F6-BAEFDEAB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CDD02-F1CB-455E-98EE-F74746A3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4DDB6-FAD5-4035-860C-8D6A6716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1EBB7-A89C-43FE-8BBB-BA4696D7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82F4F-8E4F-4B9D-A33A-485595A8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FA51-F112-4C80-A472-CAC39BF7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3C42B-C9A1-4F38-A827-E45561C0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AA59C-D107-45E1-B788-4A98F361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3A9B6-9E3C-4FBE-91F0-B0581E4A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9E671-86F7-4CC0-9283-2DDBC0C9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5A743-356C-41B8-AEFD-BB5C654D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1CA42-B131-4A45-9B37-3619F07C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6C64F-3146-4386-A99A-A305C71A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35857-F9DA-4BA5-A51C-E284D063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58E1B-5BD2-4286-8BE5-644C8B4A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DA246-17D2-42DC-A2DC-12F9C128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801B-EAD9-4243-8016-6C05BC8D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731FD-103D-450A-8AD1-B88307C5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C53FE-FA6D-4A0E-BAA7-BF9D26B1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D655D-BDFE-4509-86EA-DFD8AD48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49C50-DAB2-46E3-AD88-84796408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30256-19B4-4770-BED7-ADD8D68C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3408-5FC9-48BC-8035-D6C34347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64D8-6D1A-4BE4-9EBE-2908DBF5A961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D52C-280C-4B09-8E90-9667B514291B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B328-FB59-49F4-98E8-B506AA788B34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E201-B00D-4901-9203-F2A8EFABEAD9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délní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délník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E15E-3FEB-4ED3-AAB9-8F2EDC012A8B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bdélní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délník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F060-665C-41F6-B361-0D20659B1FA7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bdélník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98DC-793B-498C-B4BF-1301FBDCADDE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kraken.pedf.cuni.cz/~strnv3ap/funkce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Nadpis 1" descr=""/>
          <p:cNvPicPr/>
          <p:nvPr/>
        </p:nvPicPr>
        <p:blipFill>
          <a:blip r:embed="rId1"/>
          <a:stretch/>
        </p:blipFill>
        <p:spPr>
          <a:xfrm>
            <a:off x="480960" y="3200400"/>
            <a:ext cx="8358120" cy="18352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800"/>
            <a:ext cx="8077320" cy="12398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Corbel"/>
              </a:rPr>
              <a:t>Prezentace bakalářské práce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TextovéPole 3"/>
          <p:cNvSpPr/>
          <p:nvPr/>
        </p:nvSpPr>
        <p:spPr>
          <a:xfrm>
            <a:off x="122400" y="6381720"/>
            <a:ext cx="68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Autor: Václav Strnad, UK v Praze, Pedagogická fakulta, M – 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Nadpis 1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výběr tématu prá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matematika za použití IC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výhody, nevýhody, zmapování matematických portálů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cíl práce – vytvoření www stránek s využitím matematického softwaru pro výuku matematiky na SŠ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→ „něco užitečného“ → GeoGebr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pilotní nasazení – ověření přínosu www stránek a programu GeoGebra na cílové skupině (žáci SŠ, učitelé SŠ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Nadpis 1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o GeoGebř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proč GeoGebr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historie, srovnání GeoGebry s ostatním software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běr tématu práce →</a:t>
            </a: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 využití GeoGebry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práce s koeficienty, algebraické rovnice,…) → funk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stanovení hypotéz, úkolů – ICT, GeoGebra – např. </a:t>
            </a:r>
            <a:r>
              <a:rPr b="0" lang="cs-CZ" sz="2500" spc="-1" strike="noStrike">
                <a:solidFill>
                  <a:srgbClr val="000000"/>
                </a:solidFill>
                <a:latin typeface="Corbel"/>
              </a:rPr>
              <a:t>„Učitelé matematiky používají k výuce prostředků ICT“, „Žáci mají zájem o zařazování prostředků ICT do výuky matematiky“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Nadpis 1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vytvoření www portál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obsah a struktur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použitá grafika - šablon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základní manipula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zajímavosti, problém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ilotní nasazení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→ experi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web: </a:t>
            </a:r>
            <a:r>
              <a:rPr b="0" lang="cs-CZ" sz="24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http://kraken.pedf.cuni.cz/~strnv3ap/funkce/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Nadpis 1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výzkum (pilotní nasazení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metody výzkumu – řízený rozhov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38120" indent="-31896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řízený rozhovor s učiteli matematiky různých středních ško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38120" indent="-31896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otázky: přínos www stránek,  program GeoGebra, zvolené prostředí, matematický obsah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38120" indent="-31896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38120" indent="-31896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38120" indent="-31896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38120" indent="-31896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6:33:22Z</dcterms:created>
  <dc:creator>Evča</dc:creator>
  <dc:description/>
  <dc:language>en-US</dc:language>
  <cp:lastModifiedBy>Evča</cp:lastModifiedBy>
  <dcterms:modified xsi:type="dcterms:W3CDTF">2011-05-23T21:26:07Z</dcterms:modified>
  <cp:revision>56</cp:revision>
  <dc:subject/>
  <dc:title>Tvorba výukových www stránek zaměřených na technickou matematiku</dc:title>
</cp:coreProperties>
</file>