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F2D-FA39-42B2-87FF-80C823A9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74A-B1F6-4314-9F26-388EE62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75E-6AB4-4374-AF02-97589DCC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66F-B727-48B1-9FE1-520168DE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E64A-E73B-48E0-B2DE-F635485A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BB54-38BF-4273-A8EC-EC7F45D1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FB3-88FF-42A9-8A77-8EBE71E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AC3-A244-40E5-9AF1-7250A333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B59-3339-46C5-B27E-36090CE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B6B2-07FC-436E-8726-BE452CD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5DE2-880B-4A96-B0F9-3B345DE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412-15AD-4188-A40E-02A4167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3CBE-302D-4A6D-BFAB-D9EF4F0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BA2B-B944-4A5E-951B-FAC1776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28C2-40DE-47E0-A6A0-F38A35A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404-F44A-4490-A873-01CBF180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9B9B-0E59-4FD7-95D6-4B8D91A2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49F7-F529-40B1-88C3-35B3F16B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3B60-8828-4155-98DB-FB33C4C8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909A-F7DB-48F6-B538-64E0C7E0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4962-F9CB-4CF0-8EE6-E106B1F9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2EED-1946-4DA0-9893-D57EAEC7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3FB-CB57-4019-B790-E8CB7A77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7146-DAE8-4BA4-99B2-E99DFF09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6A06-13CF-4046-91D5-299B3C1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5F83-43B2-4A92-B822-2FDE043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DB7F-62B2-4FF5-8343-48F9034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5E08-6FB7-48EB-9B44-D7976F6A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3A81-0702-4D79-8025-F2653E80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B1E9-07C6-4F81-B305-0FBE2391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85A7-E11C-4CFB-BA2C-A52A4A3A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25F9-2FC0-4849-B2B7-2A3E5A33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7D5E-EB07-435D-BB84-FE4B7F8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7B8-CACE-4C9E-A243-B6EAC8FE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053F-4963-4957-8067-748B714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B088-5451-4E16-B75C-E47355D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8578-3967-49B1-95CE-C3DACE38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C037-D6BE-4D6E-9652-2985E449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334B-8B0F-4EE9-8DE6-A2C05E12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FDE5-EADA-4E2F-949C-7D0EF3B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C58A-2FC5-4374-B250-34FE674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9CF4-212B-4AB1-82C8-ED85DD7F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3F55-3CD6-449C-9BCB-9D85CAF1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AEA82-333F-4B3E-8101-BA00FF23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237-8A43-48E9-B1B9-ADCE9AAA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2C78-F6C9-438F-95BE-2CCAC178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B799-E9CD-4B42-B2A2-4F430695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14E0D-A7D7-432F-AAA9-E4B66DA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D391B-F5A7-4F29-AA5D-9D4650E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2C549-E414-4EC2-85AC-479EF84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F9A6-4F2B-4ECE-A571-9DAD1F97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F017-243A-4F72-B31B-7BD6EBF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6408-F6CC-4D32-8028-CF2E7DD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3661-7B0B-4E6F-B8A1-90F058D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6B2D-6834-400C-AEFF-31339862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54-C7E4-4A1B-BB3A-275E7AA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F656-89DD-41E9-B42D-1CE874B3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AA55-25CE-4B0E-9A71-70FCC167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4F18-5CF3-48BD-8560-6C47942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688B-FAFD-4EEC-8551-57522B61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71C2-44C4-4465-A3F1-F8BD1F7A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0EF8-4B79-4396-98B7-456468FF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8181-91F5-4760-864B-274B470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0DCC-398A-4EA9-BD58-6974F205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B1221-5554-45DD-9517-4415C2A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C28A3-F4AE-4FB4-A786-B76A079F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018-D2A3-4C2C-8F38-2D29E3D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50B80-459D-440A-88A8-660F974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D4DD-4B1C-431D-A696-BC779E19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769F-D6EA-475B-85C1-90853246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D3C-661E-4D84-9F93-471BA4EE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218-1C6C-4E06-A4E3-31DBF4C5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7276-EB7A-4E05-878A-26243B87ECC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A0E-D70B-4CE1-882E-24171723E60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1936-78E0-481E-A202-7C5C171DB4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B6D7-88F2-4DEF-B61E-EE4A7753C1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AF88-836B-47AF-83C1-07C3CEDDA94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0061-F825-4F9A-BDDD-F6209A650ED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Vlastimil Landsman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hled na D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3" name="Zástupný symbol pro obsah 3" descr="image12.png"/>
          <p:cNvPicPr/>
          <p:nvPr/>
        </p:nvPicPr>
        <p:blipFill>
          <a:blip r:embed="rId1"/>
          <a:stretch/>
        </p:blipFill>
        <p:spPr>
          <a:xfrm>
            <a:off x="1206360" y="1600200"/>
            <a:ext cx="673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ažehlení toneru na D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Zástupný symbol pro obsah 5" descr="image16.jpeg"/>
          <p:cNvPicPr/>
          <p:nvPr/>
        </p:nvPicPr>
        <p:blipFill>
          <a:blip r:embed="rId1"/>
          <a:stretch/>
        </p:blipFill>
        <p:spPr>
          <a:xfrm>
            <a:off x="833400" y="1773360"/>
            <a:ext cx="74772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dstranění zbytků papír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Zástupný symbol pro obsah 3" descr="image17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ptání v roztoku FeCL</a:t>
            </a:r>
            <a:r>
              <a:rPr b="0" lang="en-US" sz="4600" spc="-1" strike="noStrike" baseline="-25000">
                <a:solidFill>
                  <a:srgbClr val="ffffff"/>
                </a:solidFill>
                <a:latin typeface="Franklin Gothic Book"/>
              </a:rPr>
              <a:t>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Zástupný symbol pro obsah 3" descr="image18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tisk rozložení součást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Zástupný symbol pro obsah 3" descr="image19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Kalafunový la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Zástupný symbol pro obsah 3" descr="image20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sazení součást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Zástupný symbol pro obsah 3" descr="image21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tové modul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Zástupný symbol pro obsah 3" descr="image23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dul napájecího zdroj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Zástupný symbol pro obsah 3" descr="image24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živení modul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1" name="Zástupný symbol pro obsah 3" descr="image22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íle projekt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 kanálový zesilovač k domácímu kinu vlastní konstruk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kon v řádech 10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pájení z 12V (P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a, postavit levné, ale dostatečně kvalitní řeš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eticky a konstrukčně zajímavě řeš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aboratorní měření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Zástupný symbol pro obsah 3" descr="image25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Měření výkonu na Osciloskopu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5" name="Zástupný symbol pro obsah 3" descr="image26.png"/>
          <p:cNvPicPr/>
          <p:nvPr/>
        </p:nvPicPr>
        <p:blipFill>
          <a:blip r:embed="rId1"/>
          <a:stretch/>
        </p:blipFill>
        <p:spPr>
          <a:xfrm>
            <a:off x="838080" y="1700280"/>
            <a:ext cx="74678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ěření výkonu (limitace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838080" y="1766880"/>
            <a:ext cx="74678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imitace (shora a zdol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Zástupný symbol pro obsah 3" descr="image29.jpg"/>
          <p:cNvPicPr/>
          <p:nvPr/>
        </p:nvPicPr>
        <p:blipFill>
          <a:blip r:embed="rId1"/>
          <a:stretch/>
        </p:blipFill>
        <p:spPr>
          <a:xfrm>
            <a:off x="838080" y="1766880"/>
            <a:ext cx="74678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ffffff"/>
                </a:solidFill>
                <a:latin typeface="Franklin Gothic Book"/>
              </a:rPr>
              <a:t>Návrh krabice zesilovače (Google SketchUp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Zástupný symbol pro obsah 3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9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ozmístění v krabič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3" name="Zástupný symbol pro obsah 3" descr="image31.png"/>
          <p:cNvPicPr/>
          <p:nvPr/>
        </p:nvPicPr>
        <p:blipFill>
          <a:blip r:embed="rId1"/>
          <a:stretch/>
        </p:blipFill>
        <p:spPr>
          <a:xfrm>
            <a:off x="1062000" y="1600200"/>
            <a:ext cx="70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ákres, vrtání otvorů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Zástupný symbol pro obsah 3" descr="image32.png"/>
          <p:cNvPicPr/>
          <p:nvPr/>
        </p:nvPicPr>
        <p:blipFill>
          <a:blip r:embed="rId1"/>
          <a:stretch/>
        </p:blipFill>
        <p:spPr>
          <a:xfrm>
            <a:off x="838080" y="2222640"/>
            <a:ext cx="74678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Franklin Gothic Book"/>
              </a:rPr>
              <a:t>Vyvrtaná plechová krabčk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Zástupný symbol pro obsah 3" descr="image33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místění výrobku do krabičky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Zástupný symbol pro obsah 3" descr="image36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ýrob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1" name="Zástupný symbol pro obsah 3" descr="image34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ůběh projekt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běr vhodného typu zesilovač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ávrh schématu zapoj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čítačový návrh plošných spojů zesilovače a napájecího zdro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roba plošných spoj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azení a oživení výrob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oratorní měře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ýroba konstrukční krabičk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" name="Zástupný symbol pro obsah 3" descr="image35.jpeg"/>
          <p:cNvPicPr/>
          <p:nvPr/>
        </p:nvPicPr>
        <p:blipFill>
          <a:blip r:embed="rId1"/>
          <a:stretch/>
        </p:blipFill>
        <p:spPr>
          <a:xfrm>
            <a:off x="833400" y="2247840"/>
            <a:ext cx="7477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5" name="Zástupný symbol pro obsah 3" descr="image37.pn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Závě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Projekt splňuje předem zvolená krité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áklady na výrobu se povedlo udržet pod hranicí 1000K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Problém s nestabilitou, by mohl vyřešit Boucherotův č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isk znalostí, dovedností a seberealiza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ýběr vhodného zesilovač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řídy zesilovač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, malá účinn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, vyšší účinnost, zkresl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, výhody obou skup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, složitý návrh, vysoká účinn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ktronkové, drahá konstruk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DA7377 (STA540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esilovač (AB) určený pro automob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Výkon 4x6W (14V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apájecí napětí 18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Špičkový proudový odběr až 4,5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inimální počet externích kompon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Reproduktory 2-8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Cena za 1ks, 60K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Katalogové schéma zapojení TDA7377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Zástupný symbol pro obsah 4" descr=""/>
          <p:cNvPicPr/>
          <p:nvPr/>
        </p:nvPicPr>
        <p:blipFill>
          <a:blip r:embed="rId1"/>
          <a:stretch/>
        </p:blipFill>
        <p:spPr>
          <a:xfrm>
            <a:off x="1123920" y="1600200"/>
            <a:ext cx="689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apájecí zdroj, vlastní návrh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7" name="Zástupný symbol pro obsah 3" descr=""/>
          <p:cNvPicPr/>
          <p:nvPr/>
        </p:nvPicPr>
        <p:blipFill>
          <a:blip r:embed="rId1"/>
          <a:stretch/>
        </p:blipFill>
        <p:spPr>
          <a:xfrm>
            <a:off x="860400" y="1600200"/>
            <a:ext cx="74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ýsledný plošný spoj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Zástupný symbol pro obsah 3" descr=""/>
          <p:cNvPicPr/>
          <p:nvPr/>
        </p:nvPicPr>
        <p:blipFill>
          <a:blip r:embed="rId1"/>
          <a:stretch/>
        </p:blipFill>
        <p:spPr>
          <a:xfrm>
            <a:off x="838080" y="1935000"/>
            <a:ext cx="74678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3D vizualiza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Zástupný symbol pro obsah 3" descr="image11.png"/>
          <p:cNvPicPr/>
          <p:nvPr/>
        </p:nvPicPr>
        <p:blipFill>
          <a:blip r:embed="rId1"/>
          <a:stretch/>
        </p:blipFill>
        <p:spPr>
          <a:xfrm>
            <a:off x="838080" y="1646280"/>
            <a:ext cx="74678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4:09:49Z</dcterms:created>
  <dc:creator>Vlastimil Landsman</dc:creator>
  <dc:description/>
  <dc:language>en-US</dc:language>
  <cp:lastModifiedBy>C</cp:lastModifiedBy>
  <dcterms:modified xsi:type="dcterms:W3CDTF">2011-05-27T20:36:05Z</dcterms:modified>
  <cp:revision>37</cp:revision>
  <dc:subject/>
  <dc:title>Jak učit práci se zvukem a videem</dc:title>
</cp:coreProperties>
</file>