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D34C-C047-4592-AC60-DE9B750BF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EEF0-864E-4524-A947-B2514E66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A766-BE0A-4D76-9E21-4D100BA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3532-C0CB-4248-98CB-FBBB81CAA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43025-25B1-4915-96C1-73591636F5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172C8-B9A7-45C6-BA51-C4FFEB4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A6F02-BA61-43FF-92CC-13A6FB1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04F8A-85CE-40EF-AEEF-5065F42F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86CC2-2823-4139-A7FD-186303F0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2D140-A942-427B-927E-08B8A0D9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D973C-3BB2-4879-95D5-929DB8FD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2DDE-4089-4EA2-987B-4591CE25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2E8DD-B3DC-4C22-9F81-6A5C5031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86185-DF96-4704-97F4-DC06E14A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9A556-51EF-4D49-B1A5-4ADB8248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91D1B-6B3D-4427-8643-92F147C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FF82D-EB72-4E2F-95C9-31D000AE2C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9EEF-A163-489E-A2BC-726FD90A4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B763-F902-4DED-B0F7-792BCB06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A9E4-4A93-4BBE-AE1F-11AD9F00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A559-69BC-4D08-818C-FD27B9C4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61E8-026E-40ED-A5DF-BAA7B335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DDDE-FA76-405F-8273-7C52D0C9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4A8-03DC-4201-BC72-BC0D419A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2B31-C15D-467E-8FCA-1E42D606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BF14-ED90-4133-93BA-CFC9E145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DBF7-2080-44B0-9286-9B5AFE56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D0F3-2690-4FB0-BA54-FC84A2B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DA72-A437-4083-9692-67B822B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E104-EBEE-45D4-B0B6-B839E5B229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FF256-C3B1-4C66-9817-838A654330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16A77-FF15-4E1A-BAFD-EFB3EEA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9BDFD-DC0C-4D39-AEB4-65457929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4065-0E3B-402F-AD9F-2B93F62D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13A58-B52C-4A5B-9139-7E04F0C4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D3560-3CD3-4E13-BEC1-B402AB79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5B0F5-09CF-421E-8E36-2FCF34A3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199D0-083C-40A2-90D0-E891D344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CE5E6-272F-4090-A4E5-114C35D2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5865B-AE8F-495A-A0ED-2A63580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1F8D7-9F87-4297-9073-891C9117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66051-C99F-4440-B1A5-357F7651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A4D7D-7C93-4EA8-8D1B-B083212CA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1B8E6-FC63-431F-8C0D-39BA1669BD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0501-D4F5-4930-A15F-AF103BB1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C57A9-396E-49D3-AEBB-0366843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8484FB-75CC-4D79-AB8B-133615DF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75A02-5E8B-40C2-A640-439F7565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A4097-FA8A-40CF-8BF3-51F2990A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1FAA26-88F5-4F73-B547-6EB021D9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7723D-F4AD-42BE-9BE4-7B20A029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CC8AB-37BD-46EC-9E84-74067037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95643-7E6E-4437-914B-076FA257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9B388-EA84-489D-89A5-A449FEB2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873488-08B3-4E38-9BDF-022A3C6E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7B41-43AC-4D96-BB15-81B04298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8ACF3-3AC4-4D5C-BECF-42511A18C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E114-494F-42AF-8F27-C4608C36E5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5ED8-C4E3-4BBC-A742-B4AB4100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53AF-6459-4F36-81EC-D2DF740C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2F81-9A00-46C1-90AC-5F10FB1C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BA72-75D0-4347-B6BD-AA3912A5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96840"/>
            <a:ext cx="74534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65935-72C6-4C7B-BACD-16D7C140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9A5A8-3DF2-4F76-83E3-6E191BAE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EF5E-A134-4767-A7FC-F15BAABE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0FED-84C1-4BA5-88FB-646FB628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ABF8-AB62-40C6-9040-057F4655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711B-423E-49D0-96C8-5739CD3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FDDEA-016F-4981-BFC9-B5CF5D7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7720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497560" y="160020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7720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497560" y="3956760"/>
            <a:ext cx="23997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A91E-2B51-404A-B09E-7BFEAD492E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76440" y="395676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16FE-E944-4701-A83E-96F17D0C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36370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7453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4743-7A40-41AF-A07B-8D029B11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2A4B1-B171-4348-A348-8A2CDAD4738D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F7D5B63-6CE9-4177-8AC4-3F452557E358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C98251A-6B9C-4828-A995-055653B089B3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6D3C767-042B-429A-B7E8-C439DD79E1A1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16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BC3413A-F426-46F4-80C0-F00731011A02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74534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53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6840" y="641988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1988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9172709-AA7E-4714-AAF1-C29FDDB185D3}" type="slidenum">
              <a:rPr b="0" lang="pl-PL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11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13160" y="720720"/>
            <a:ext cx="5586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UNIVERSITY OF RZESZ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ŁUKASZ URBAN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3357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l-PL" sz="3600" spc="-1" strike="noStrike">
                <a:solidFill>
                  <a:srgbClr val="ffffff"/>
                </a:solidFill>
                <a:latin typeface="Arial"/>
              </a:rPr>
              <a:t>WIKILEARN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Arial"/>
              </a:rPr>
              <a:t>A MODEL OF VIRTUAL EDUCATIONAL ENVIRON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558000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mework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0" y="500040"/>
            <a:ext cx="9132840" cy="5881680"/>
            <a:chOff x="0" y="500040"/>
            <a:chExt cx="9132840" cy="588168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0" y="500040"/>
              <a:ext cx="9132840" cy="58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0" y="500040"/>
              <a:ext cx="9132840" cy="58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2840" y="2008080"/>
            <a:ext cx="6977160" cy="4086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800360" y="0"/>
            <a:ext cx="46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o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syste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9280" y="6480000"/>
            <a:ext cx="306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ible differenc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00000" y="900000"/>
            <a:ext cx="7553520" cy="4864320"/>
            <a:chOff x="900000" y="900000"/>
            <a:chExt cx="7553520" cy="486432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tretch/>
          </p:blipFill>
          <p:spPr>
            <a:xfrm>
              <a:off x="900000" y="900000"/>
              <a:ext cx="7553520" cy="48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00000" y="900000"/>
              <a:ext cx="7553520" cy="48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900000" y="2160720"/>
            <a:ext cx="5759640" cy="3373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179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links to other pages in the system everywhere where po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40360" y="2879640"/>
            <a:ext cx="3341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e image itself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Hyperlink to a closeup with detailed 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940360"/>
            <a:ext cx="91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yperlinks work as detailed explanation balloon pop-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60360" y="539640"/>
            <a:ext cx="1800" cy="36036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19280" y="539640"/>
            <a:ext cx="1440" cy="107964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40000" y="539640"/>
            <a:ext cx="1440" cy="126072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539640"/>
            <a:ext cx="1800" cy="144000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539640"/>
            <a:ext cx="1440" cy="161928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19640" y="539640"/>
            <a:ext cx="1800" cy="1260720"/>
          </a:xfrm>
          <a:prstGeom prst="line">
            <a:avLst/>
          </a:prstGeom>
          <a:ln w="468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60360"/>
            <a:ext cx="914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at is just a very simpl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107964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ole lesson may be easily exten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otally replaced by multi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nteractive material from technologies lik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15960" y="2519280"/>
            <a:ext cx="1003320" cy="936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680000" y="2519280"/>
            <a:ext cx="1593720" cy="8780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2340000" y="2519280"/>
            <a:ext cx="1619280" cy="1079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6767640" y="2340000"/>
            <a:ext cx="1692000" cy="1440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1079640" y="3780000"/>
            <a:ext cx="1203120" cy="1618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6342120" y="3959280"/>
            <a:ext cx="1217520" cy="1217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2981160" y="3925800"/>
            <a:ext cx="2598840" cy="1293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57592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s ready for these, no changes just plug-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advantag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720720" y="360360"/>
            <a:ext cx="4319640" cy="6119640"/>
          </a:xfrm>
          <a:custGeom>
            <a:avLst/>
            <a:gdLst>
              <a:gd name="textAreaLeft" fmla="*/ 360 w 4319640"/>
              <a:gd name="textAreaRight" fmla="*/ 4319280 w 4319640"/>
              <a:gd name="textAreaTop" fmla="*/ 360 h 6119640"/>
              <a:gd name="textAreaBottom" fmla="*/ 6119280 h 6119640"/>
            </a:gdLst>
            <a:ahLst/>
            <a:rect l="textAreaLeft" t="textAreaTop" r="textAreaRight" b="textAreaBottom"/>
            <a:pathLst>
              <a:path w="21600" h="30600">
                <a:moveTo>
                  <a:pt x="7" y="0"/>
                </a:moveTo>
                <a:arcTo wR="7" hR="7" stAng="16200000" swAng="-5400000"/>
                <a:lnTo>
                  <a:pt x="0" y="30593"/>
                </a:lnTo>
                <a:arcTo wR="7" hR="7" stAng="10800000" swAng="-5400000"/>
                <a:lnTo>
                  <a:pt x="21593" y="30600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539640"/>
            <a:ext cx="3959280" cy="720720"/>
          </a:xfrm>
          <a:prstGeom prst="roundRect">
            <a:avLst>
              <a:gd name="adj" fmla="val 218"/>
            </a:avLst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1440000"/>
            <a:ext cx="3959280" cy="360360"/>
          </a:xfrm>
          <a:prstGeom prst="roundRect">
            <a:avLst>
              <a:gd name="adj" fmla="val 440"/>
            </a:avLst>
          </a:pr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1979640"/>
            <a:ext cx="2340000" cy="1979640"/>
          </a:xfrm>
          <a:prstGeom prst="roundRect">
            <a:avLst>
              <a:gd name="adj" fmla="val 7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19640" y="1979640"/>
            <a:ext cx="1439640" cy="19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29700">
                <a:moveTo>
                  <a:pt x="23" y="0"/>
                </a:moveTo>
                <a:arcTo wR="23" hR="23" stAng="16200000" swAng="-5400000"/>
                <a:lnTo>
                  <a:pt x="0" y="29677"/>
                </a:lnTo>
                <a:arcTo wR="23" hR="23" stAng="10800000" swAng="-5400000"/>
                <a:lnTo>
                  <a:pt x="21577" y="297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4140360"/>
            <a:ext cx="3959280" cy="1079280"/>
          </a:xfrm>
          <a:prstGeom prst="roundRect">
            <a:avLst>
              <a:gd name="adj" fmla="val 144"/>
            </a:avLst>
          </a:prstGeom>
          <a:solidFill>
            <a:srgbClr val="80801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rcises / Homework / Ta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o by stu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5400720"/>
            <a:ext cx="3959280" cy="90000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 to other les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19640" y="1606680"/>
            <a:ext cx="2043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links wi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ful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ll of the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88120" y="3932280"/>
            <a:ext cx="1954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loo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pop-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bedded i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4857840" y="1257120"/>
            <a:ext cx="1085760" cy="9061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4857840" y="1617840"/>
            <a:ext cx="1085760" cy="5457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057120" y="2160720"/>
            <a:ext cx="2886120" cy="1792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76400" y="2160720"/>
            <a:ext cx="1266840" cy="5396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676400" y="2160720"/>
            <a:ext cx="1266840" cy="2160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676400" y="2160720"/>
            <a:ext cx="1266840" cy="34192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676400" y="4140360"/>
            <a:ext cx="144612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055680" y="3416040"/>
            <a:ext cx="3066840" cy="7268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4676400" y="3057480"/>
            <a:ext cx="1446120" cy="108576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59280" y="716040"/>
            <a:ext cx="306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ical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20720" y="360360"/>
            <a:ext cx="4319640" cy="6119640"/>
          </a:xfrm>
          <a:custGeom>
            <a:avLst/>
            <a:gdLst>
              <a:gd name="textAreaLeft" fmla="*/ 360 w 4319640"/>
              <a:gd name="textAreaRight" fmla="*/ 4319280 w 4319640"/>
              <a:gd name="textAreaTop" fmla="*/ 360 h 6119640"/>
              <a:gd name="textAreaBottom" fmla="*/ 6119280 h 6119640"/>
            </a:gdLst>
            <a:ahLst/>
            <a:rect l="textAreaLeft" t="textAreaTop" r="textAreaRight" b="textAreaBottom"/>
            <a:pathLst>
              <a:path w="21600" h="30600">
                <a:moveTo>
                  <a:pt x="7" y="0"/>
                </a:moveTo>
                <a:arcTo wR="7" hR="7" stAng="16200000" swAng="-5400000"/>
                <a:lnTo>
                  <a:pt x="0" y="30593"/>
                </a:lnTo>
                <a:arcTo wR="7" hR="7" stAng="10800000" swAng="-5400000"/>
                <a:lnTo>
                  <a:pt x="21593" y="30600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539640"/>
            <a:ext cx="3959280" cy="360360"/>
          </a:xfrm>
          <a:prstGeom prst="roundRect">
            <a:avLst>
              <a:gd name="adj" fmla="val 440"/>
            </a:avLst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1079640"/>
            <a:ext cx="3959280" cy="360360"/>
          </a:xfrm>
          <a:prstGeom prst="roundRect">
            <a:avLst>
              <a:gd name="adj" fmla="val 440"/>
            </a:avLst>
          </a:pr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0000" y="5940360"/>
            <a:ext cx="3959280" cy="360360"/>
          </a:xfrm>
          <a:prstGeom prst="roundRect">
            <a:avLst>
              <a:gd name="adj" fmla="val 44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 to other les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1619280"/>
            <a:ext cx="3959280" cy="1440000"/>
          </a:xfrm>
          <a:prstGeom prst="roundRect">
            <a:avLst>
              <a:gd name="adj" fmla="val 106"/>
            </a:avLst>
          </a:prstGeom>
          <a:solidFill>
            <a:srgbClr val="aec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700360" y="1800360"/>
            <a:ext cx="1979640" cy="1090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580000" y="2155680"/>
            <a:ext cx="270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ultimed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00000" y="3060720"/>
            <a:ext cx="3959280" cy="1619280"/>
          </a:xfrm>
          <a:prstGeom prst="roundRect">
            <a:avLst>
              <a:gd name="adj" fmla="val 97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1619280" cy="1079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580000" y="3419640"/>
            <a:ext cx="23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ac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rcises and tasks, quizz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900000" y="3060720"/>
            <a:ext cx="963720" cy="900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3780000" y="3046320"/>
            <a:ext cx="1079280" cy="14526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2700360" y="306072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900000" y="4680000"/>
            <a:ext cx="3959280" cy="1079280"/>
          </a:xfrm>
          <a:prstGeom prst="roundRect">
            <a:avLst>
              <a:gd name="adj" fmla="val 144"/>
            </a:avLst>
          </a:prstGeom>
          <a:solidFill>
            <a:srgbClr val="4700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1440000" y="3745080"/>
            <a:ext cx="1879560" cy="9349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580000" y="4859280"/>
            <a:ext cx="3564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 wiki tool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ion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ools for true teaching-learn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774720" y="4680000"/>
            <a:ext cx="3005280" cy="909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H="1">
            <a:off x="4856040" y="2340000"/>
            <a:ext cx="72720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856040" y="3780000"/>
            <a:ext cx="72720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856040" y="5219640"/>
            <a:ext cx="727200" cy="180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3600360" y="4680000"/>
            <a:ext cx="126864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266220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ose used today separately, when added together to form thi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veryone already saw capabilities of those technologies used separat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116000" y="1854360"/>
            <a:ext cx="68040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rn 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% of what we teach other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419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er the students to teach on their own wiki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make them learn faster and eas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32400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all pieces neede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 need to put them 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1979640"/>
            <a:ext cx="9180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19640" y="4500720"/>
            <a:ext cx="244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 matter of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2700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68280" algn="ctr">
              <a:spcBef>
                <a:spcPts val="10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</a:t>
            </a: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157480" y="1314360"/>
            <a:ext cx="52131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Learn 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% of what we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% of what we h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 of what we 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of what we see and h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 of what we discu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 of what we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5% of what we teach other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4680000"/>
            <a:ext cx="216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lliam Glas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439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The goal of this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879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68280" algn="ctr">
              <a:spcBef>
                <a:spcPts val="75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 answ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his century's educational challe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114560"/>
            <a:ext cx="914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or explanation of the titl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854360"/>
            <a:ext cx="914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ikilearning = eLearning + idea of wiki = new opportuniti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68460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meaning of the studen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for the stu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28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heir advantage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ir disadvantag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664160"/>
            <a:ext cx="914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ke every student teach others on wik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95% learning effect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60360" y="1998720"/>
            <a:ext cx="2340000" cy="1781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00720" y="1800360"/>
            <a:ext cx="2181240" cy="21650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470560" y="3833640"/>
            <a:ext cx="1909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0360" y="3833640"/>
            <a:ext cx="234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1 Per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8796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9640" y="900000"/>
            <a:ext cx="3009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62160" y="5081760"/>
            <a:ext cx="4859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+ selected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2160720"/>
            <a:ext cx="91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used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06072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26920" y="2673360"/>
            <a:ext cx="1694160" cy="2006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20720" y="360360"/>
            <a:ext cx="3135240" cy="1754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407200" y="209520"/>
            <a:ext cx="2873160" cy="1770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6659640" y="3240000"/>
            <a:ext cx="2160360" cy="1136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859280" y="4859280"/>
            <a:ext cx="2898720" cy="1619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780000" y="534960"/>
            <a:ext cx="180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0000" y="5940360"/>
            <a:ext cx="16570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Window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60720" y="720720"/>
            <a:ext cx="3255840" cy="3255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4025880"/>
            <a:ext cx="914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VirtualBox = many opera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on 1 machi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ll in the sam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lso commonly used Open Sour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standard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27003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See fo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lf.</a:t>
            </a: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965240" y="107964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19280" y="539640"/>
            <a:ext cx="1440000" cy="1319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319640" y="107964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40360" y="882720"/>
            <a:ext cx="1743120" cy="917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184880" y="107964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1260360" y="2533680"/>
            <a:ext cx="1438560" cy="885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9640" y="270036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4880" y="270036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3608280" y="2417760"/>
            <a:ext cx="1792440" cy="10018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965240" y="108108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59280" y="270036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1071720" y="4140360"/>
            <a:ext cx="1809720" cy="10112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39640" y="4500720"/>
            <a:ext cx="374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60720" y="4500720"/>
            <a:ext cx="387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3419640" y="3933720"/>
            <a:ext cx="4846320" cy="1467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913200" y="5580000"/>
            <a:ext cx="382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t to be confused with Wikiversity or Mood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4400" y="9360"/>
            <a:ext cx="6464160" cy="6847200"/>
            <a:chOff x="14400" y="9360"/>
            <a:chExt cx="6464160" cy="684720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4400" y="9360"/>
              <a:ext cx="6464160" cy="68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4400" y="9360"/>
              <a:ext cx="6464160" cy="68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840360" y="2340000"/>
            <a:ext cx="2160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version does not use system's advantages (to show differenc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k</cp:lastModifiedBy>
  <dcterms:modified xsi:type="dcterms:W3CDTF">2011-05-18T09:51:18Z</dcterms:modified>
  <cp:revision>44</cp:revision>
  <dc:subject/>
  <dc:title>Slajd 1</dc:title>
</cp:coreProperties>
</file>