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62D-AB9A-462B-98F5-41AF69DF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FDC1-D50A-49A0-B3D4-53A7F411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22B-00F7-436C-AEC3-E0201E24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A9F8-83FF-492B-B655-3B076A65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8A5-BD5B-42A7-9B10-C9EEDC87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81E-DB29-4F42-84A6-1E4B71F7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391-6377-4C0E-AAA5-0194590B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4B3-7981-456B-975A-D0E92F0B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569-4004-409D-A49F-F37EBC3F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824-B307-4577-A733-3782A3A1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C125-703F-4668-B480-F8019FE6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475-3720-497B-82F9-75A2A4DD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C592-85EE-45EF-B6B2-4087E2C11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bnovitelné zdroje energie – vodní elektrárny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c. Petra Svobodová         ZČ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urbí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3341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18.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Francisova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aplan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(přetlaková)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(přetlaková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eltonov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án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(rovnotlaká)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(rovnotlaká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5880" y="1447920"/>
            <a:ext cx="2895840" cy="2158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52480" y="1447920"/>
            <a:ext cx="2895840" cy="2189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133720" y="3886200"/>
            <a:ext cx="2179440" cy="2743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095880" y="4191120"/>
            <a:ext cx="28958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ŠV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 předcházející části prezentace jsem se zabývala různými zdroji energie soustředila jsem se hlavně na energii vodní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uto problematiku bych chtěla začlenit do výuky předmětu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acovn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výchov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a základních školá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Školský vzdělávací program toto umožňuje - v  současné době si každá škola tvoří svůj vlastní vzdělávací program a to je stav velmi vhodný pro můj návr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sem toho názoru, že žáci by se s problémy životního prostředí měli seznamovat již na základní škole. Ekologie a ochrana životního prostředí je novým fenoménem naší doby a děti by se v této oblasti měly dobře orientov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ŠV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45820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Tématické okru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 stupeň: Práce s technickými materi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esing a konstru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ěstitelské práce, chovatelstv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ovoz a údržba domác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íprava pokrm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vět prá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áce s laboratorní technik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užití digitálních technologi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ŠV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45820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dle těchto osmi tradičních modulů navrhuji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dul devát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lavní téma: obnovitelné a neobnovitelné zdroje e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a 9. třída – zralost žá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dul 9 Technická ek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1 Elektrotech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2 Neobnovitelné zdroje en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3 Obnovitelné zdroje en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4 Ochrana životního prostředí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ická ek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610840" cy="52578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Náze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: Elektrotechn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poručený roční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harak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: Žák se seznámí se základy problematiky, bude umět použít technické značky a pojm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í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Žák bude umě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popsat základní vlastnosti pojmů, převody jednot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Žák bude zná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elektrotechnické značky a jednotky, postupy měření, vlastnosti technických prvků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pojm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Odpor, kondenzátor, cívka, napětí, voltmetr, ampérmetr, wattmetr, paralelní a sériové zapoj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Bez%20názvu" descr=""/>
          <p:cNvPicPr/>
          <p:nvPr/>
        </p:nvPicPr>
        <p:blipFill>
          <a:blip r:embed="rId1"/>
          <a:stretch/>
        </p:blipFill>
        <p:spPr>
          <a:xfrm>
            <a:off x="990720" y="5715000"/>
            <a:ext cx="1143000" cy="779400"/>
          </a:xfrm>
          <a:prstGeom prst="rect">
            <a:avLst/>
          </a:prstGeom>
          <a:ln w="0">
            <a:noFill/>
          </a:ln>
        </p:spPr>
      </p:pic>
      <p:pic>
        <p:nvPicPr>
          <p:cNvPr id="86" name="Bez%20názvu" descr=""/>
          <p:cNvPicPr/>
          <p:nvPr/>
        </p:nvPicPr>
        <p:blipFill>
          <a:blip r:embed="rId2"/>
          <a:stretch/>
        </p:blipFill>
        <p:spPr>
          <a:xfrm>
            <a:off x="2438280" y="5715000"/>
            <a:ext cx="1162080" cy="771480"/>
          </a:xfrm>
          <a:prstGeom prst="rect">
            <a:avLst/>
          </a:prstGeom>
          <a:ln w="0">
            <a:noFill/>
          </a:ln>
        </p:spPr>
      </p:pic>
      <p:pic>
        <p:nvPicPr>
          <p:cNvPr id="87" name="Bez%20názvu" descr=""/>
          <p:cNvPicPr/>
          <p:nvPr/>
        </p:nvPicPr>
        <p:blipFill>
          <a:blip r:embed="rId3"/>
          <a:stretch/>
        </p:blipFill>
        <p:spPr>
          <a:xfrm>
            <a:off x="4191120" y="5486400"/>
            <a:ext cx="1371600" cy="1009800"/>
          </a:xfrm>
          <a:prstGeom prst="rect">
            <a:avLst/>
          </a:prstGeom>
          <a:ln w="0">
            <a:noFill/>
          </a:ln>
        </p:spPr>
      </p:pic>
      <p:pic>
        <p:nvPicPr>
          <p:cNvPr id="88" name="Bez%20názvu" descr=""/>
          <p:cNvPicPr/>
          <p:nvPr/>
        </p:nvPicPr>
        <p:blipFill>
          <a:blip r:embed="rId4"/>
          <a:stretch/>
        </p:blipFill>
        <p:spPr>
          <a:xfrm>
            <a:off x="6019920" y="5726160"/>
            <a:ext cx="28191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ická ek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610840" cy="52578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Náze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: Neobnovitelné zdroje energi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poručený roční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harak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: Žák získá informace o možnostech využití energie z neobnovitelných zdrojů (uhlí, ropa, zemní plyn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í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Žák bude umě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vyjmenovat neobnovitelné zdroje energie, určit vlastnosti neobnovitelných zdrojů energie, vyjmenovat výhody a nevýhod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Žák bude zná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hlavní (důležité) vlastnosti neobnovitelných zdrojů energie, druhy neobnovitelných zdrojů energie, důvody hledání jiných možností, postupy a možnosti, jak snižovat spotřebu energ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pojm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Uhlí – černé, hnědé, rop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emní plyn, těžba, elektrár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ez%20názvu" descr=""/>
          <p:cNvPicPr/>
          <p:nvPr/>
        </p:nvPicPr>
        <p:blipFill>
          <a:blip r:embed="rId1"/>
          <a:stretch/>
        </p:blipFill>
        <p:spPr>
          <a:xfrm>
            <a:off x="5486400" y="4648320"/>
            <a:ext cx="314316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ická ek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610840" cy="52578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Náze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: Obnovitelné zdroje energ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poručený roční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harak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: Žák získá další informace o možnostech získání energie z obnovitelných zdrojů. Vlastnosti OZE. Důvody využívání OZE. Snižování spotřeby. Druhy OZ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í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Žák bude umě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vyjmenovat druhy OZE, říct vlastnosti OZ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důvodnit využívání OZE, vyjmenovat klady a zápor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rovnat výkony elektráren (MW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Žák bude zná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vlastnosti OZE, druhy OZE, dův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yužívání, rozdíl mezi obnovitelnými a neobnovitelným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droji e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pojm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Energie – vodní, větrná, sluneční, turbí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ez%20názvu" descr=""/>
          <p:cNvPicPr/>
          <p:nvPr/>
        </p:nvPicPr>
        <p:blipFill>
          <a:blip r:embed="rId1"/>
          <a:stretch/>
        </p:blipFill>
        <p:spPr>
          <a:xfrm>
            <a:off x="6781680" y="3200400"/>
            <a:ext cx="2229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ická ek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610840" cy="52578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Náze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: Ochrana životního prostřed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poručený roční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harak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: Žáci si prohloubí znalosti o zdrojích energie a poznají další informace o energetické situaci. Moderní způsoby využití obnovitelných zdroj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í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Žák bude umě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rozeznat zdroje energie, vysvětlit pojem recyklace, odůvodnit třídění odpadů, vyjmenovat výhody a nevýhody recyklace a třídění odpad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Žák bude zná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vlastnosti moderních způsobů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yužití zdrojů energie, druhy moderní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působů využití zdrojů energ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pojm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elektrárna, kotel, recyklac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iomasa, bioplyn, brike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ez%20názvu1" descr=""/>
          <p:cNvPicPr/>
          <p:nvPr/>
        </p:nvPicPr>
        <p:blipFill>
          <a:blip r:embed="rId1"/>
          <a:stretch/>
        </p:blipFill>
        <p:spPr>
          <a:xfrm>
            <a:off x="5486400" y="4267080"/>
            <a:ext cx="342900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160" y="761760"/>
            <a:ext cx="8305560" cy="5715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ýuka tohoto předmětu bude realizována i formou exkurz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orie + pr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izace: třídní učitel + učitel fyziky, zeměpisu, biologi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ez%20názvu1" descr=""/>
          <p:cNvPicPr/>
          <p:nvPr/>
        </p:nvPicPr>
        <p:blipFill>
          <a:blip r:embed="rId1"/>
          <a:stretch/>
        </p:blipFill>
        <p:spPr>
          <a:xfrm>
            <a:off x="2286000" y="3271680"/>
            <a:ext cx="42670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xkur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lektrárna Vydr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Čeňkova pil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Černé jeze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alikovský mlýn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hrada Hracholusk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514600" cy="1884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505320" y="1828800"/>
            <a:ext cx="2476440" cy="1859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324480" y="1905120"/>
            <a:ext cx="2476800" cy="1855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90720" y="4419720"/>
            <a:ext cx="3504960" cy="171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029200" y="4419720"/>
            <a:ext cx="220968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Úv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 diplomové práci se zaměřuji na výrobu elektrické energie z obnovitelných zdrojů a soustřeďuji se hlavně na vodní energii a její využití v  regionu západních Če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jdůležitější částí předkládané práce je kapitola, ve které se zabývám Školským vzdělávacím programem a zvažuji možnosti uplatnění těchto zajímavých informací ve školní látce druhého stupně základních šk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160" y="685440"/>
            <a:ext cx="8305560" cy="57913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rní doba vyžaduje moderní přístupy a žáci musí být připraveni pro život ve vyspělé industriální společnosti, kde velkou roli hraje energetika, ekologie a péče o kvalitní životní prostřed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 našem přetechnizovaném světě je nutno už žáky základních škol učit úctě a pokoře k přírodě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ýchova k ekologickému myšlení by měla být součástí všech vyučovaných předmětů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zitivně to ovlivní kvalitu našeho života a i života následujících generac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830556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ěkuji za pozorno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bnovitelné zdroje ener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dní energi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Sluneční energi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Větrná energi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otermální energi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omas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29000" y="1905120"/>
            <a:ext cx="2666880" cy="1987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24480" y="1905120"/>
            <a:ext cx="2667240" cy="1989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495680" y="4495680"/>
            <a:ext cx="2667240" cy="1990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33520" y="1905120"/>
            <a:ext cx="2590560" cy="1946160"/>
          </a:xfrm>
          <a:prstGeom prst="rect">
            <a:avLst/>
          </a:prstGeom>
          <a:ln w="0">
            <a:noFill/>
          </a:ln>
        </p:spPr>
      </p:pic>
      <p:pic>
        <p:nvPicPr>
          <p:cNvPr id="51" name="Bez%20názvu" descr=""/>
          <p:cNvPicPr/>
          <p:nvPr/>
        </p:nvPicPr>
        <p:blipFill>
          <a:blip r:embed="rId5"/>
          <a:stretch/>
        </p:blipFill>
        <p:spPr>
          <a:xfrm>
            <a:off x="1371600" y="4495680"/>
            <a:ext cx="25909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bnovitelné zdroje ener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ýh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enerativ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vyčerpatel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Žádné zplodi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náročná obsluha zaříz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výh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ávislé na počasí (vítr, slu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utabilní vzhled kraji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jasná dotační politika stá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dní ener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Výh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generativní – obnoviteln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vyčerpateln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zodpadová – žádné zplodi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ároky na obsluhu a údržbu jsou minim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uštění během několika min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krytí okamžitých nároků na výrob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ktrické energi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kundární zdroje energie, které jso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plňkem jiných elektráren (uheln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odní turbíny patří k motorům s největš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účinnost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3429000" cy="2575080"/>
          </a:xfrm>
          <a:prstGeom prst="rect">
            <a:avLst/>
          </a:prstGeom>
          <a:ln w="0">
            <a:noFill/>
          </a:ln>
        </p:spPr>
      </p:pic>
      <p:pic>
        <p:nvPicPr>
          <p:cNvPr id="57" name="Bez%20názvu" descr=""/>
          <p:cNvPicPr/>
          <p:nvPr/>
        </p:nvPicPr>
        <p:blipFill>
          <a:blip r:embed="rId2"/>
          <a:stretch/>
        </p:blipFill>
        <p:spPr>
          <a:xfrm>
            <a:off x="5562720" y="4114800"/>
            <a:ext cx="342396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dní ener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Nevýh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ávislá na počasí a ročním obdob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chází ke změně průtočného množstv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zónní zdroje e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 výstavbu velkých vodních akumulační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ktráren je nutné zatopit veliké územ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na zařízení je vysok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ýstavba je časově náročná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řehradní hráze a jezy brání běžnému lodnímu provoz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utnost vybudovat systém plavebních komor, resp. zdyma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ektivita – velké řeky, vysoké a rychlé spád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liv na energetickou situaci v ČR je malý (Vltava, Dy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32004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dní ener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54100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incip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echanická energie proudící vody se mění na energii elektrickou, která se transformuje a odvádí do míst spotře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Ty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zové (průtokové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erivační (náhonové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hradní (akumulačn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íliv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čerpávací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alé (do 10 MW), střední (10 MW -200 MW), velké (nad 200 MW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Bez%20názvu1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4952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řečerpávací elektrá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peciální typ, která slouží ke skladování (akumulaci) elektrické e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í problém rozdílné spotřeby elektrické energie (den, n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vě vodní nádrže (horní, dolní), spojeny spádovým potrubím o velkém průmě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louhé stráně, Štěchovice, Černé jezero, Daleš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ez%20názvu1" descr=""/>
          <p:cNvPicPr/>
          <p:nvPr/>
        </p:nvPicPr>
        <p:blipFill>
          <a:blip r:embed="rId1"/>
          <a:stretch/>
        </p:blipFill>
        <p:spPr>
          <a:xfrm>
            <a:off x="5486400" y="3429000"/>
            <a:ext cx="2341440" cy="3124080"/>
          </a:xfrm>
          <a:prstGeom prst="rect">
            <a:avLst/>
          </a:prstGeom>
          <a:ln w="0">
            <a:noFill/>
          </a:ln>
        </p:spPr>
      </p:pic>
      <p:pic>
        <p:nvPicPr>
          <p:cNvPr id="67" name="Bez%20názvu1" descr=""/>
          <p:cNvPicPr/>
          <p:nvPr/>
        </p:nvPicPr>
        <p:blipFill>
          <a:blip r:embed="rId2"/>
          <a:stretch/>
        </p:blipFill>
        <p:spPr>
          <a:xfrm>
            <a:off x="838080" y="3432240"/>
            <a:ext cx="419112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istorie vodní ener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ývoj civilizace je neodmyslitelně spojen s historií využívání vodní e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vní využitá energie (Egypt - 3000 př.n.l.) – přeměna vodní energie na mechanickou práci - využití pro čerpání vody do závlahových kanálů (síla:lidská, zvířecí, vodn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vodní kol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(Balkánský poloostrov 2.st.př.n.l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nejstarší vodní motor (dnes vodní turbín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rozšířeno do celého světa jako všeobecně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yužívaný energetický str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lýny - mletí obilí, valchování sukna, drcen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ádry, výroba střelného prach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210360" y="2971800"/>
            <a:ext cx="2801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5:25:00Z</dcterms:created>
  <dc:creator>Petra Svobodová</dc:creator>
  <dc:description/>
  <dc:language>en-US</dc:language>
  <cp:lastModifiedBy>petulka</cp:lastModifiedBy>
  <dcterms:modified xsi:type="dcterms:W3CDTF">2011-05-23T17:53:45Z</dcterms:modified>
  <cp:revision>88</cp:revision>
  <dc:subject/>
  <dc:title>Možnosti využití obnovitelných zdrojů energie v ČR</dc:title>
</cp:coreProperties>
</file>