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479-DB20-4B51-A92B-5A23E271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6F4-670C-4103-9139-FBBAD43A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ADF-24B7-4AE0-9F1E-E22F6019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1CA-F632-48FE-8A72-2382079B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BA6-1DB3-4D09-A77E-F5FCEDC2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EBA8-61DE-440F-9A37-B373D056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2590-D339-4081-95ED-F302AB8D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723E-CEAB-4AE3-92EB-0138113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921E-FE68-49E2-B1BC-9EED466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3A25-01B1-4D0E-AEE7-D32D95D8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4863-BC40-4A4F-AB52-318280D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AC2-3820-453D-B6C3-49EC8DD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845D-E60D-4EA7-B4D6-BAEAD17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6881-70A7-4928-A008-3B0BBEE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F243-0D50-4094-96B0-CBB02B1D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57A-0CA9-4172-8521-9F8C0448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3AF-1C23-4F34-BB9D-389A1927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AF0F8-DD11-40B8-A5C1-6B378531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AAF5F-BA21-4ABB-99A8-821B475F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016AF-E027-48AC-9578-310C1FCD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C4445-B7F2-4057-9E72-BDD7ECE7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0069C-A76E-4E21-AC84-5BEB4D7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BB2-F5DC-4084-BF5D-AFEDA55C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4E6C7-27AF-4302-82AE-F2F1FDE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FF284-9F1B-4C92-A436-26B6E72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3BAC3-6DF0-41AB-8464-0F49A06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55B1B-836F-4A8A-862F-CD1D6D3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33B7B-6E50-4A4D-90DB-72744254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ACFE0-ECBE-4EB9-B1D2-5DC44653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FF58F-7108-47FD-85C1-4DDD28E3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8907-7953-4233-9E51-87A4636F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1171F-EBE2-487A-A3B8-EE8A31E4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7F34-81B6-462D-8897-D6A031A8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F6A-1766-4FA9-A641-932BF6EB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DC641-06B3-44CB-AB7F-CA8CABF0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5D09-A10A-41A1-8E17-891C1D4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C537-DFD6-4C47-A166-A83FDA1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F350-3FF2-41D5-B689-C43E1A3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478F-E07D-4AB4-A22A-F885228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B21EE-BBFF-4545-916E-D324E74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DE29-95B5-4984-89A8-CB63B657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1BF0-CCD2-45E4-AE6B-D47BD7B7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E0EE-3A95-4C56-B489-0AA13B4C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F6CFC-6934-4443-B115-2B200C7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4A3-3E87-469B-826F-3BA8EFA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B36D7-BCDC-4491-9A3F-AC3C4521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7E53F-D8B5-4815-8A81-0E06270E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2EA5F-D014-4FE5-96CA-D0ED5E6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7B34E-10D2-4393-80AB-AE0DC8F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D6DE7-10F1-4FF7-90EE-00BC93EA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FCBA8-E03E-4C58-9B5C-3AACF7CA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7848B-4A56-409B-9484-62E8D0EB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113BD-A903-4A2E-BD1A-1EB1990F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4BBA5-FBC4-4033-911B-7C3F243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251C8-7D9A-4713-8FDA-47014B9C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6AD-D608-45A5-94B2-2357CC9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87518-2044-4047-958D-0B366502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20C8E-9346-4C4B-A961-0018B650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3F1B3-9535-4F6F-8730-35195EE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62F71-71B9-43AE-853B-3000E3C1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AD668-092B-4C49-A503-F987D030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E2556-299F-4693-9CEB-674E21B9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00CAD-09CD-4B37-BC2C-34D1423C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AACB7-BDC9-42F0-A700-86D870C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A8492-81CB-4298-9A70-6F596E8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E5D9C-3355-430F-B532-9391073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CE7-A756-43A4-AC27-9A3DAFD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6BF5A-4CD8-4277-A329-31138F3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376A8-D7D4-4925-A2C2-06677A62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E500C-F4E8-4D86-96B2-CD34F208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AEEDB-B729-47DB-B7FB-60E737C5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4825E-F511-4DE0-97FB-B28C8E83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B13A3-1AD7-4B9A-BA87-38FDC873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03D30-D178-42AA-B62F-F0282EA7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22EF2-FC06-4E36-BFD8-D6624110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8A755-48B7-4222-80EB-5247690C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B17EB-6723-4CFD-A17A-7B06BE8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D6B-FC18-437A-83A1-2F46144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150C9-51BC-4A20-8BB5-847D6607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0F7A1-ECA3-4DCA-A2B0-EA5808F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FE817-DD0E-4C00-866E-E32897A0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A86E1-4A56-4EF7-B9E0-4731D512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948AD-B1F7-4B4E-8824-623A8FCD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592-E3A3-4AB2-97DE-1F8FE4C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60B5-39FE-4040-9892-5FF1005A9B6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F39-D289-46F1-B6AF-172B35F79C2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252A-1E0E-44EF-BE31-70AB9B4A02F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0125-195E-42C9-A94E-4F1B29D1907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A57C-C119-4846-9914-7CE06B4356C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0F5E-5F97-4835-9558-59D6B29773D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EFA4-842A-4B11-AC08-1FD0A0DC1D6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UČEBNÍ POMŮCKA PRO VÝUKU DIGITÁLNÍ TECHNI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Tomáš Podhrázk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ovéPole 5"/>
          <p:cNvSpPr/>
          <p:nvPr/>
        </p:nvSpPr>
        <p:spPr>
          <a:xfrm>
            <a:off x="2571840" y="42876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Masarykova Univerz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Pedagogická fak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Katedra Technické a Informační vých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V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čební pomůcka pro výuku digitální techniky, vznikla za účelem praktické části k bakalářské prác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čební pomůcka je spíše směřovaná k výuce digitální (číslicové) techniky na základní ško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YUŽITÍ POMŮC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užití pro výuku digitální tech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786040" y="2571840"/>
          <a:ext cx="3286080" cy="3292560"/>
        </p:xfrm>
        <a:graphic>
          <a:graphicData uri="http://schemas.openxmlformats.org/drawingml/2006/table">
            <a:tbl>
              <a:tblPr/>
              <a:tblGrid>
                <a:gridCol w="873000"/>
                <a:gridCol w="770040"/>
                <a:gridCol w="822240"/>
                <a:gridCol w="82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TextovéPole 4"/>
          <p:cNvSpPr/>
          <p:nvPr/>
        </p:nvSpPr>
        <p:spPr>
          <a:xfrm>
            <a:off x="2786040" y="221472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divostní tabulka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ovéPole 5"/>
          <p:cNvSpPr/>
          <p:nvPr/>
        </p:nvSpPr>
        <p:spPr>
          <a:xfrm>
            <a:off x="1143000" y="60008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. Log. 1 = stisknuté tlačítko; Log. 0 = nestisknuté tlačít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YUŽITÍ POMŮC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599840"/>
            <a:ext cx="74674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užití v digitální techn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Binární číselná sousta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Sčítání binární soustav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Binární signá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14720" y="3929040"/>
            <a:ext cx="4524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YUŽITÍ POMŮC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Eletrotechnika, Elektronika (práce v elektro dílnác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áce v dílnách (dřevo, papír, plas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ÁVĚR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ařízení slouží k osvojení základních principů digitální techniky, především logický součet a binární soustav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STOR PRO DOTAZ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9:23:06Z</dcterms:created>
  <dc:creator>Tomáš</dc:creator>
  <dc:description/>
  <dc:language>en-US</dc:language>
  <cp:lastModifiedBy>Tomáš</cp:lastModifiedBy>
  <dcterms:modified xsi:type="dcterms:W3CDTF">2011-05-24T08:28:29Z</dcterms:modified>
  <cp:revision>25</cp:revision>
  <dc:subject/>
  <dc:title>Učební pomůcka pro výuku digitální techniky na ZŠ</dc:title>
</cp:coreProperties>
</file>