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D8E0-87D6-4688-BE65-7E8ABBB1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2D51-21EA-4EB9-BC7F-C4E4CCE1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A214-BF87-430E-BDC5-85865F0DB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ABFF-D100-4AF6-AB52-5A4762EAB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EDE8-A517-4A0D-AE8D-FA9CCE8B5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F31D-F043-4C6A-ACB1-14D34C31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AAB2-F88F-4F15-B01E-28B2F01E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898F-2E7C-4F94-BA0B-3DD2BD9C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19B9-D492-49C0-B776-7FB3BCD5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CB32-6DDE-4AAA-9827-2D69D923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91F8-FFBA-4A7E-9CD4-E7A50321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B327-A42D-492D-8AFF-DD046CC0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689B-B412-4DDF-A4ED-AF21B2E7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A673-7207-4B01-B08B-B765268E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1D0A-25AB-46DD-9152-81F35B5F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D29A-856F-4389-8D7B-603645436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9B6F-B072-4BCE-AFCB-98CCA308C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3E0F0-7741-44CB-B599-6634F7494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3D29B-C1B3-4BC7-8993-D107A0C5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98BB2-9CB0-412D-A911-0A19C951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63B4C-3FAD-4000-98E2-F294F898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688B0-0C7B-437D-B6C7-CBFD0F15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2CBF-50D0-4B47-9D8A-C8C67C9E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F8B17-3D38-46BF-AD35-C698E31A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FE852-D054-4F59-94CE-7A44B603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028EA-CA8F-4B70-B1BB-B119B933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EF6B9-3070-48A1-8D0D-BA135A67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8D3DA-7234-4257-BDC8-A8366B14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7F4C8-ED37-4BA9-8730-BD40D9B8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8A01B-DCE1-44E0-B66C-EB783FFE4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D3717-7D80-45FE-B927-BDE822F2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505C6-ED55-4A61-8DFB-DD23A159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64BA6-2F5E-47CC-A6FC-CB17EEF6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C998-9530-4351-8C33-94585AB6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D31CD-63D5-4D28-8FAB-755F851D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207E0-8DEE-4A77-A219-7FAB071D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3CE81-32EE-4FF9-9FCF-8274A721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7EEBC-0738-4F66-9EC9-A7730634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E5908-1F9E-40AE-A089-4E87351A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FF7DD-B3E8-47C1-A710-E075FE14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3B63F-C354-43B7-98F5-B17845C6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5CAB6-6CB3-4A57-892C-1831643D5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A0F88-821C-466D-B6F5-9B4965A74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B4C3C-6087-4CCD-B861-ECCBAC139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C21D-84C9-40AE-9768-A39D3BDB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E2D63-2FEF-46AC-A830-F3F039BB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3A743-60DA-4A3D-82AF-F20BC74B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F946C-F02D-4617-98CE-8427F0E5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CB42B-00DF-4876-AE04-E8253563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64D10-14D9-4D31-B7BA-D44C615B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E92EE-76F8-4721-9AF0-5497900C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D556E-8A4B-4E6C-A20E-82F7FBBF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AEF4D-73F1-44E1-B548-6626AD3F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B55BD-6263-4565-9E46-A8676F0C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13672-5333-4E5A-B52A-F78C12FC8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A0F9-DD71-4F3C-93C9-E0C347D8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CD1C6-F473-4A55-846B-20D329FC4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D80E6-F321-487E-B1AA-06455DB30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9B9E0-E5A5-4B8D-8904-F06232A2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C16CE-5622-421C-BE5D-5E2685F2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471C3-CC69-466F-8AC1-9F8BB6C2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C1678-0F30-4415-8C7E-8DC3D2E0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5791A-AE97-41F1-90DB-D9103BA9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D5AA8-6C20-4EC0-8148-314CCA3C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1013A-7C5B-477D-A23E-63DE6746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E3612-E53D-41D7-8AB3-EC0C75AD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B51F-3CB9-45BB-B6F5-A03FF9CA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7E0CD-E320-4E4A-BB17-76B967C7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6D312-801E-492E-B60C-3ACF46B18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DF654-D3D8-4610-887A-DFA86584A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404EE-41C4-4B7F-B7C6-17D4AA122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0D1AB-E26A-42B1-81C1-D21D46B0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5E48B-42BE-4801-AB28-3580FC73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AB960-D09F-42DB-85BA-8E68014D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BC00D-73F6-4D74-9C7D-FFB20239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34E63-EA63-4B81-996B-E39DD716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2CC88-4037-4464-AB8C-7E00A60C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6966-A085-45AA-B1CF-C5C073DB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3C1B6-C6CC-4105-9EC6-3DCE09B8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B6FF1-08AA-4D02-ACFC-128CF750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AA92B-9A70-4EBC-B0C4-B7B63FF9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5CCD2-F23F-4E10-B7C1-9EE9C4D97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DE460-F36F-406B-8C70-0443202DF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CFE2-0A63-4D5F-9143-9550407C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4F16-4C33-4A5B-9349-F2CF5B40B87B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8130-85FC-4B08-8773-E1D851DF6E72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bdélník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délník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487A-6E1F-4A2E-AFC8-8DFA1F5F84C8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BD30-8C07-4257-BD62-14E27A282DDC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bdélní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délník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bdélník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439A-989D-4380-BE3B-C3650F38E170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Obdélní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bdélník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bdélník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A86F-A68B-4CEC-B405-C91491E4588E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Obdélník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B312-6053-4697-BFAF-5A919FB83EDE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kraken.pedf.cuni.cz/~strnv3ap/funkce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Nadpis 1" descr=""/>
          <p:cNvPicPr/>
          <p:nvPr/>
        </p:nvPicPr>
        <p:blipFill>
          <a:blip r:embed="rId1"/>
          <a:stretch/>
        </p:blipFill>
        <p:spPr>
          <a:xfrm>
            <a:off x="480960" y="3200400"/>
            <a:ext cx="8358120" cy="183528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800"/>
            <a:ext cx="8077320" cy="123984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Corbel"/>
              </a:rPr>
              <a:t>Prezentace bakalářské práce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TextovéPole 3"/>
          <p:cNvSpPr/>
          <p:nvPr/>
        </p:nvSpPr>
        <p:spPr>
          <a:xfrm>
            <a:off x="122400" y="6381720"/>
            <a:ext cx="68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Autor: Václav Strnad, UK v Praze, Pedagogická fakulta, M – T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Nadpis 1" descr=""/>
          <p:cNvPicPr/>
          <p:nvPr/>
        </p:nvPicPr>
        <p:blipFill>
          <a:blip r:embed="rId1"/>
          <a:stretch/>
        </p:blipFill>
        <p:spPr>
          <a:xfrm>
            <a:off x="317520" y="152280"/>
            <a:ext cx="8375760" cy="12621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výběr tématu prác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matematika za použití IC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výhody, nevýhody, zmapování matematických portálů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cíl práce – vytvoření www stránek s využitím matematického softwaru pro výuku matematiky na SŠ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→ „něco užitečného“ → GeoGebr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pilotní nasazení – ověření přínosu www stránek a programu GeoGebra na cílové skupině (žáci SŠ, učitelé SŠ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Nadpis 1" descr=""/>
          <p:cNvPicPr/>
          <p:nvPr/>
        </p:nvPicPr>
        <p:blipFill>
          <a:blip r:embed="rId1"/>
          <a:stretch/>
        </p:blipFill>
        <p:spPr>
          <a:xfrm>
            <a:off x="317520" y="152280"/>
            <a:ext cx="8375760" cy="12621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o GeoGebř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proč GeoGebr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historie, srovnání GeoGebry s ostatním softwarem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běr tématu práce →</a:t>
            </a: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 využití GeoGebry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práce s koeficienty, algebraické rovnice,…) → funkc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stanovení hypotéz, úkolů – ICT, GeoGebra – např. </a:t>
            </a:r>
            <a:r>
              <a:rPr b="0" lang="cs-CZ" sz="2500" spc="-1" strike="noStrike">
                <a:solidFill>
                  <a:srgbClr val="000000"/>
                </a:solidFill>
                <a:latin typeface="Corbel"/>
              </a:rPr>
              <a:t>„Učitelé matematiky používají k výuce prostředků ICT“, „Žáci mají zájem o zařazování prostředků ICT do výuky matematiky“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Nadpis 1" descr=""/>
          <p:cNvPicPr/>
          <p:nvPr/>
        </p:nvPicPr>
        <p:blipFill>
          <a:blip r:embed="rId1"/>
          <a:stretch/>
        </p:blipFill>
        <p:spPr>
          <a:xfrm>
            <a:off x="317520" y="152280"/>
            <a:ext cx="8375760" cy="12621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vytvoření www portálu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obsah a struktur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použitá grafika - šablon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základní manipulac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zajímavosti, problém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pilotní nasazení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→ experi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web: </a:t>
            </a:r>
            <a:r>
              <a:rPr b="0" lang="cs-CZ" sz="24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http://kraken.pedf.cuni.cz/~strnv3ap/funkce/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Nadpis 1" descr=""/>
          <p:cNvPicPr/>
          <p:nvPr/>
        </p:nvPicPr>
        <p:blipFill>
          <a:blip r:embed="rId1"/>
          <a:stretch/>
        </p:blipFill>
        <p:spPr>
          <a:xfrm>
            <a:off x="317520" y="152280"/>
            <a:ext cx="8375760" cy="1262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výzkum (pilotní nasazení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metody výzkumu – řízený rozhovo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438120" indent="-31896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řízený rozhovor s učiteli matematiky různých středních ško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438120" indent="-31896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otázky: přínos www stránek,  program GeoGebra, zvolené prostředí, matematický obsah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438120" indent="-31896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438120" indent="-31896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438120" indent="-31896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438120" indent="-31896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6:33:22Z</dcterms:created>
  <dc:creator>Evča</dc:creator>
  <dc:description/>
  <dc:language>en-US</dc:language>
  <cp:lastModifiedBy>Evča</cp:lastModifiedBy>
  <dcterms:modified xsi:type="dcterms:W3CDTF">2011-05-23T21:26:07Z</dcterms:modified>
  <cp:revision>56</cp:revision>
  <dc:subject/>
  <dc:title>Tvorba výukových www stránek zaměřených na technickou matematiku</dc:title>
</cp:coreProperties>
</file>