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430-64DE-4733-B5A5-CF47E844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860-EDB7-4503-9986-66A252E0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1DC-2A2B-4F47-9CB7-E684862C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109-06A8-4525-B22A-B6175CCD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082F-5446-4E48-A44D-91D39811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13DB-8150-4299-8AE4-00108837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DF6A-5342-445B-B191-AA83B1AC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D861-62DE-4747-A47C-FAA4C64F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214E-68DD-4231-9034-8A047C0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C03E-561E-4E01-A06E-5224CB6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8D0F-BD8A-4B23-AF38-E36FD5F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7F6-FB84-447B-B722-CD404CF5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7D3B-59B0-4CCD-903F-B4FA0E8C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D0EC-535A-4576-B635-F59AFA49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9A1C-9363-489F-8227-663D28E4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63EA-F8DE-4716-95BC-656E8C8B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2D2E-4184-42A7-B1E2-857F69DA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BC279-03A9-4B60-A4D8-52CF1E31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E25E-E2E6-42F9-9F01-B84CE7BC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BAFF-4450-4167-BC3E-41FB60AD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6E6E-AB84-4AA6-B0BC-E9BAC6AE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133B-7B24-4225-A50F-A737BDA5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5CC-D25F-4350-B560-038E9027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F7E4-885E-4F06-90C9-3B1E285A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E1A4-64A7-4552-9A38-E7EFD49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D295-E876-46CF-ACAC-1FBEB7E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6D2E-80AE-44CC-BC03-45ABA07E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D5A6-4396-4EB3-B3F0-70DEEEA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1141-B748-44AE-83DB-B521D484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8903-63E3-46B9-9832-8CA91C34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7B30D-5947-4EEE-A6CE-556CE686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E7A2-F73B-4354-8F6A-8034FAF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DB73-09B6-402A-8482-CD726A63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744-39F8-4708-9CAC-B5479B0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BBD2-14AF-415E-8EC9-E334F5CB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B3949-107C-4D35-ACC9-83B26D77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E14A7-AE33-4F34-8192-0E1F7FDB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8C17F-0B0A-470E-BBF3-76781FA7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17180-07B3-4545-BD63-0638973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352D-EC20-465C-AE10-B92BABEF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2DBC7-B1A9-459F-96BF-5E43702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6576-2653-401B-BDE6-E67B7FFE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34DA-84DD-4C67-AEC4-DE906008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A315B-DC22-4DA1-BE7F-CC5017D3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C40-86F3-4E73-8955-967FFE47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40EA8-1E31-40A1-91B6-3CC7901F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59FA1-AEAD-4E0E-906E-93E4F9F8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36A60-4631-4F90-875F-4E6EBEE2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91BA-C119-4E5E-8CE2-C307EC3B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E9AFD-A747-4C50-BB29-0592C00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C0573-E76A-45ED-A926-4EFE14D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6405-4C43-4E30-B30B-C31E1818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F8526-55C0-4D32-9850-5B14ABDD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E6BBC-C510-4E50-943A-798868F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210F9-DA9F-40ED-93C2-A988F574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B1D-FD4B-4176-B1EB-CAC7DD1F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49111-6292-42C6-A23F-95A18B0F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979F-5CB6-4776-B449-19C9CB30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E1AB-A2F7-4E7B-80F8-7DAA110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09797-1242-4386-BD51-624952FA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B9F53-FE13-4103-A18C-58A73854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34D2B-CF21-47DA-976F-14F8AEF7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60F7-EC39-4D45-A38B-9FDE1042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0DF57-7A17-4934-89D1-13099F3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EA0A-09E8-4490-A506-B8015F0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DBE3-BFDC-458D-A906-59CC33A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E14-A0BE-4D38-B6E1-3998E8A9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3E1BE-F6B5-448F-AC10-9E4D7636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16550-9FD6-438A-88B8-9FA6187F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FBC3B-DB43-4099-825D-B425FB90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56B-17DB-4462-91CA-B0ACD72D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B05-9113-46A5-AF0D-8D781121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F1F6-3E57-473C-BE2B-B872F1D8386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lný tvar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17CE-AF8C-4383-8350-9637908ECFC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lný tvar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92F6-8A59-40CC-8164-92AE3FAC91A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D88-02E1-4E28-9479-CA19FB88C6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054C-FDA5-452E-B9E0-9D5B92FA84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FDF5-C5F3-4001-A02F-9BE1C998B7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Vlastimil Landsman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ohled na D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3" name="Zástupný symbol pro obsah 3" descr="image12.png"/>
          <p:cNvPicPr/>
          <p:nvPr/>
        </p:nvPicPr>
        <p:blipFill>
          <a:blip r:embed="rId1"/>
          <a:stretch/>
        </p:blipFill>
        <p:spPr>
          <a:xfrm>
            <a:off x="1206360" y="1600200"/>
            <a:ext cx="67312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ažehlení toneru na D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Zástupný symbol pro obsah 5" descr="image16.jpeg"/>
          <p:cNvPicPr/>
          <p:nvPr/>
        </p:nvPicPr>
        <p:blipFill>
          <a:blip r:embed="rId1"/>
          <a:stretch/>
        </p:blipFill>
        <p:spPr>
          <a:xfrm>
            <a:off x="833400" y="1773360"/>
            <a:ext cx="74772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dstranění zbytků papír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Zástupný symbol pro obsah 3" descr="image17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ptání v roztoku FeCL</a:t>
            </a:r>
            <a:r>
              <a:rPr b="0" lang="en-US" sz="4600" spc="-1" strike="noStrike" baseline="-25000">
                <a:solidFill>
                  <a:srgbClr val="ffffff"/>
                </a:solidFill>
                <a:latin typeface="Franklin Gothic Book"/>
              </a:rPr>
              <a:t>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Zástupný symbol pro obsah 3" descr="image18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otisk rozložení součáste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Zástupný symbol pro obsah 3" descr="image19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Kalafunový la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Zástupný symbol pro obsah 3" descr="image20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sazení součáste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Zástupný symbol pro obsah 3" descr="image21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tové modul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Zástupný symbol pro obsah 3" descr="image23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dul napájecího zdroj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9" name="Zástupný symbol pro obsah 3" descr="image24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živení modul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1" name="Zástupný symbol pro obsah 3" descr="image22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íle projekt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 kanálový zesilovač k domácímu kinu vlastní konstruk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ýkon v řádech 10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pájení z 12V (P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a, postavit levné, ale dostatečně kvalitní řeše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eticky a konstrukčně zajímavě řeše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aboratorní měření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Zástupný symbol pro obsah 3" descr="image25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Měření výkonu na Osciloskopu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5" name="Zástupný symbol pro obsah 3" descr="image26.png"/>
          <p:cNvPicPr/>
          <p:nvPr/>
        </p:nvPicPr>
        <p:blipFill>
          <a:blip r:embed="rId1"/>
          <a:stretch/>
        </p:blipFill>
        <p:spPr>
          <a:xfrm>
            <a:off x="838080" y="1700280"/>
            <a:ext cx="74678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ěření výkonu (limitace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838080" y="1766880"/>
            <a:ext cx="74678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imitace (shora a zdol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Zástupný symbol pro obsah 3" descr="image29.jpg"/>
          <p:cNvPicPr/>
          <p:nvPr/>
        </p:nvPicPr>
        <p:blipFill>
          <a:blip r:embed="rId1"/>
          <a:stretch/>
        </p:blipFill>
        <p:spPr>
          <a:xfrm>
            <a:off x="838080" y="1766880"/>
            <a:ext cx="74678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ffffff"/>
                </a:solidFill>
                <a:latin typeface="Franklin Gothic Book"/>
              </a:rPr>
              <a:t>Návrh krabice zesilovače (Google SketchUp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Zástupný symbol pro obsah 3" descr=""/>
          <p:cNvPicPr/>
          <p:nvPr/>
        </p:nvPicPr>
        <p:blipFill>
          <a:blip r:embed="rId1"/>
          <a:stretch/>
        </p:blipFill>
        <p:spPr>
          <a:xfrm>
            <a:off x="1276200" y="1600200"/>
            <a:ext cx="659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ozmístění v krabičc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3" name="Zástupný symbol pro obsah 3" descr="image31.png"/>
          <p:cNvPicPr/>
          <p:nvPr/>
        </p:nvPicPr>
        <p:blipFill>
          <a:blip r:embed="rId1"/>
          <a:stretch/>
        </p:blipFill>
        <p:spPr>
          <a:xfrm>
            <a:off x="1062000" y="1600200"/>
            <a:ext cx="70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ákres, vrtání otvorů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Zástupný symbol pro obsah 3" descr="image32.png"/>
          <p:cNvPicPr/>
          <p:nvPr/>
        </p:nvPicPr>
        <p:blipFill>
          <a:blip r:embed="rId1"/>
          <a:stretch/>
        </p:blipFill>
        <p:spPr>
          <a:xfrm>
            <a:off x="838080" y="2222640"/>
            <a:ext cx="74678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ffff"/>
                </a:solidFill>
                <a:latin typeface="Franklin Gothic Book"/>
              </a:rPr>
              <a:t>Vyvrtaná plechová krabčk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Zástupný symbol pro obsah 3" descr="image33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místění výrobku do krabičky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Zástupný symbol pro obsah 3" descr="image36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Výrobe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1" name="Zástupný symbol pro obsah 3" descr="image34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ůběh projekt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ýběr vhodného typu zesilovač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ávrh schématu zapoje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čítačový návrh plošných spojů zesilovače a napájecího zdroj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ýroba plošných spoj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azení a oživení výrob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oratorní měře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ýroba konstrukční krabičk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3" name="Zástupný symbol pro obsah 3" descr="image35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5" name="Zástupný symbol pro obsah 3" descr="image37.png"/>
          <p:cNvPicPr/>
          <p:nvPr/>
        </p:nvPicPr>
        <p:blipFill>
          <a:blip r:embed="rId1"/>
          <a:stretch/>
        </p:blipFill>
        <p:spPr>
          <a:xfrm>
            <a:off x="0" y="0"/>
            <a:ext cx="90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Závě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Projekt splňuje předem zvolená krité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áklady na výrobu se povedlo udržet pod hranicí 1000K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Problém s nestabilitou, by mohl vyřešit Boucherotův č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isk znalostí, dovedností a seberealiza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Výběr vhodného zesilovač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řídy zesilovač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, malá účinn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, vyšší účinnost, zkresle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, výhody obou skup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, složitý návrh, vysoká účinn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ktronkové, drahá konstruk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DA7377 (STA540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esilovač (AB) určený pro automobi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Výkon 4x6W (14V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apájecí napětí 18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Špičkový proudový odběr až 4,5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inimální počet externích kompon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Reproduktory 2-8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Cena za 1ks, 60K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Katalogové schéma zapojení TDA7377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Zástupný symbol pro obsah 4" descr=""/>
          <p:cNvPicPr/>
          <p:nvPr/>
        </p:nvPicPr>
        <p:blipFill>
          <a:blip r:embed="rId1"/>
          <a:stretch/>
        </p:blipFill>
        <p:spPr>
          <a:xfrm>
            <a:off x="1123920" y="1600200"/>
            <a:ext cx="689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apájecí zdroj, vlastní návrh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7" name="Zástupný symbol pro obsah 3" descr=""/>
          <p:cNvPicPr/>
          <p:nvPr/>
        </p:nvPicPr>
        <p:blipFill>
          <a:blip r:embed="rId1"/>
          <a:stretch/>
        </p:blipFill>
        <p:spPr>
          <a:xfrm>
            <a:off x="860400" y="1600200"/>
            <a:ext cx="74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Výsledný plošný spoj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Zástupný symbol pro obsah 3" descr=""/>
          <p:cNvPicPr/>
          <p:nvPr/>
        </p:nvPicPr>
        <p:blipFill>
          <a:blip r:embed="rId1"/>
          <a:stretch/>
        </p:blipFill>
        <p:spPr>
          <a:xfrm>
            <a:off x="838080" y="1935000"/>
            <a:ext cx="746784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3D vizualizac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Zástupný symbol pro obsah 3" descr="image11.png"/>
          <p:cNvPicPr/>
          <p:nvPr/>
        </p:nvPicPr>
        <p:blipFill>
          <a:blip r:embed="rId1"/>
          <a:stretch/>
        </p:blipFill>
        <p:spPr>
          <a:xfrm>
            <a:off x="838080" y="1646280"/>
            <a:ext cx="74678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4:09:49Z</dcterms:created>
  <dc:creator>Vlastimil Landsman</dc:creator>
  <dc:description/>
  <dc:language>en-US</dc:language>
  <cp:lastModifiedBy>C</cp:lastModifiedBy>
  <dcterms:modified xsi:type="dcterms:W3CDTF">2011-05-27T20:36:05Z</dcterms:modified>
  <cp:revision>37</cp:revision>
  <dc:subject/>
  <dc:title>Jak učit práci se zvukem a videem</dc:title>
</cp:coreProperties>
</file>