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BE5BC-109A-4F81-B0DD-84FC85691D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5344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56760"/>
            <a:ext cx="745344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1A364-3D3F-4987-8E21-CEC4F4C39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76440" y="160020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76440" y="395676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B2418-A3BA-4B22-8047-68D54434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3997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77200" y="1600200"/>
            <a:ext cx="23997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497560" y="1600200"/>
            <a:ext cx="23997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56760"/>
            <a:ext cx="23997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77200" y="3956760"/>
            <a:ext cx="23997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497560" y="3956760"/>
            <a:ext cx="23997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90DF7-905D-4198-8114-F603C989CB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1C7F83-FE90-4602-9E38-7E82A56BEE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5344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9035D9-CC83-46C1-942C-E46D44E27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5344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A5F222-52DB-4536-9464-B432C62BE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3708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76440" y="1600200"/>
            <a:ext cx="363708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25AC6A-7452-48F2-ADF9-C8C46EDA2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88D480-1D7D-4991-A984-95E9BB9C1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96840"/>
            <a:ext cx="7453440" cy="69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32871A-699E-4C43-BAF1-F33FFBEBB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76440" y="1600200"/>
            <a:ext cx="363708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3B6541-A9A5-4DCD-A5AB-6B0200E59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5344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568CF-A008-4C36-8BC8-2E4ACE509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3708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76440" y="160020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76440" y="395676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1CDA1A-95E3-4158-B62F-AF8FC857A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76440" y="160020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745344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BF2D79-E246-4CC9-A41A-60EA23781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5344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56760"/>
            <a:ext cx="745344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B97278-A628-4211-BDD1-6DF5C91A0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76440" y="160020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76440" y="395676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B0BCE3-0DD2-44D1-A302-41491EE0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3997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77200" y="1600200"/>
            <a:ext cx="23997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7560" y="1600200"/>
            <a:ext cx="23997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56760"/>
            <a:ext cx="23997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77200" y="3956760"/>
            <a:ext cx="23997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497560" y="3956760"/>
            <a:ext cx="23997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629E95-950A-4936-8EF8-DFFAA3E9CE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DBAF8-6495-4340-A500-67F617B378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5344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53A97-F69C-478B-99F6-FD8479AE5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5344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770A0-222C-4CBA-BE07-0AC8D3DB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3708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76440" y="1600200"/>
            <a:ext cx="363708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B31EE-FBA6-475C-AEBB-FF5D54FB2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325CF-B155-4B49-A432-D4F8B4147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5344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83B52-A191-4E31-859C-33A24EFBE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96840"/>
            <a:ext cx="7453440" cy="69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25C46-067F-4C71-AE1A-5603789C7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76440" y="1600200"/>
            <a:ext cx="363708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1CEC9-5219-4C7A-AE16-E86D8BD8D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3708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76440" y="160020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76440" y="395676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EA7CB-ABA5-4298-8558-972777ADA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76440" y="160020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745344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3D358-05F6-4DEB-9D20-4FD0344C0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5344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56760"/>
            <a:ext cx="745344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675DD-ACDB-4868-9C59-17509443F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76440" y="160020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76440" y="395676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0AE77-72F1-4E5A-AABC-FBD491BD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3997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77200" y="1600200"/>
            <a:ext cx="23997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497560" y="1600200"/>
            <a:ext cx="23997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56760"/>
            <a:ext cx="23997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77200" y="3956760"/>
            <a:ext cx="23997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497560" y="3956760"/>
            <a:ext cx="23997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B6D63-EC98-4D54-B1BF-DDB23098B4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2F42FF-CC7D-47CC-BC54-8B62A59BCF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5344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C43DE9-DC6A-4835-A77F-CE1FC17DB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5344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D3B4D8-0FD8-45A7-9A1C-388770386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3708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76440" y="1600200"/>
            <a:ext cx="363708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76A84-A84A-46CF-80D2-A70784C52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3708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76440" y="1600200"/>
            <a:ext cx="363708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58EE0A-A8E7-4732-B49C-C938FFB03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8384C9-8760-40E2-A40D-0184B813E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96840"/>
            <a:ext cx="7453440" cy="69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57F7F5-BE3E-48CB-A254-DFC0DF1F1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76440" y="1600200"/>
            <a:ext cx="363708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2D8190-A490-4CF9-9677-F13A3BF42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3708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76440" y="160020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76440" y="395676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D21128-29BF-45C7-8F55-6671D33E8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76440" y="160020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745344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31191D-11EF-46A2-982D-2A035FF60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5344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56760"/>
            <a:ext cx="745344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FE89A8-8B5F-4C42-AAE7-6A3111A17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76440" y="160020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76440" y="395676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1EF1F1-78D8-434F-B864-092A1D76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3997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77200" y="1600200"/>
            <a:ext cx="23997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497560" y="1600200"/>
            <a:ext cx="23997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56760"/>
            <a:ext cx="23997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77200" y="3956760"/>
            <a:ext cx="23997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497560" y="3956760"/>
            <a:ext cx="23997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68F7A4-5CE0-46FA-A8D5-98B4A7EF33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891063-DFDB-4EA9-BA28-C31E7A0969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9448C-CCD4-44AC-A517-00DCAFC82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5344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CA0279-7C59-403A-91AD-47CFF1345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5344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CC7C62-FC00-4CA6-B443-A173EB2BD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3708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76440" y="1600200"/>
            <a:ext cx="363708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246D10-5FDC-4E8A-A957-90751840F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A6AB23-12D7-4A55-9DB1-2F2640C6A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96840"/>
            <a:ext cx="7453440" cy="69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C82F8C-E5CA-4529-85F2-9416A4D4C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76440" y="1600200"/>
            <a:ext cx="363708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21CCCE-F945-4E3C-9CB7-91BFE82DA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3708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76440" y="160020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76440" y="395676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17CE73-3E68-46B2-A910-4F8D165A1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76440" y="160020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745344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3E28AC-E886-44EE-BEE8-30ED011FA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5344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56760"/>
            <a:ext cx="745344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AFFD2A-23F8-4F3C-AFF0-CE11A9340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76440" y="160020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76440" y="395676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4CA3A6-ACE5-4DC2-86C1-58529D15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96840"/>
            <a:ext cx="7453440" cy="69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C043C-654F-4C62-A4E5-3FD86CB5D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3997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77200" y="1600200"/>
            <a:ext cx="23997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497560" y="1600200"/>
            <a:ext cx="23997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56760"/>
            <a:ext cx="23997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77200" y="3956760"/>
            <a:ext cx="23997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497560" y="3956760"/>
            <a:ext cx="23997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035FDF-1B33-450E-8E52-0D9CA12088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00AB1-C4BF-4D90-9244-EFF1ECEFB2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5344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B2061-C673-4A10-9393-AB3649573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5344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F178F-F4A4-4C0D-9493-4065BFE19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3708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76440" y="1600200"/>
            <a:ext cx="363708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60360-621E-4EAC-ACC9-56B868F37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86D72-8695-4CD3-956F-C1B59C9B8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96840"/>
            <a:ext cx="7453440" cy="69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28ECB-3251-486A-BBAF-92D49ABE8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76440" y="1600200"/>
            <a:ext cx="363708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268BC-61CD-4DAA-83AE-5100F8491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3708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76440" y="160020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76440" y="395676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98FD0-8E62-4DA4-ACBA-789B5B140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76440" y="160020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745344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1A24E-CCC6-4C52-B396-F5D37CA8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76440" y="1600200"/>
            <a:ext cx="363708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FF5F5-F1D9-43D5-801F-6C44FC4B2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5344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56760"/>
            <a:ext cx="745344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A34A4-1F2E-4F62-B7D9-ED4D28E45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76440" y="160020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76440" y="395676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5895D-7174-4AD2-9E29-8075D267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3997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77200" y="1600200"/>
            <a:ext cx="23997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497560" y="1600200"/>
            <a:ext cx="23997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56760"/>
            <a:ext cx="23997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77200" y="3956760"/>
            <a:ext cx="23997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497560" y="3956760"/>
            <a:ext cx="23997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ECE7D-68D1-4259-B8BB-DB93BB1B61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3708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76440" y="160020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76440" y="395676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4CBB0-A846-47F6-B1CA-9EEDFF789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76440" y="160020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745344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1EE37-80F8-4013-B506-77C8276FB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5344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19880"/>
            <a:ext cx="2119320" cy="3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124080" y="641988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8152920" y="6419880"/>
            <a:ext cx="747720" cy="3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834F80-A317-4460-83FE-4B92D01301FD}" type="slidenum"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7d7d"/>
            </a:gs>
            <a:gs pos="100000">
              <a:srgbClr val="242424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5344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6840" y="6419880"/>
            <a:ext cx="2119320" cy="3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pl-PL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l-PL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41988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4"/>
          </p:nvPr>
        </p:nvSpPr>
        <p:spPr>
          <a:xfrm>
            <a:off x="8152920" y="6419880"/>
            <a:ext cx="747720" cy="3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pl-PL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F161CEF3-4795-4D5D-9381-F6DC502E6BA7}" type="slidenum">
              <a:rPr b="0" lang="pl-PL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7d7d"/>
            </a:gs>
            <a:gs pos="100000">
              <a:srgbClr val="242424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5344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5"/>
          </p:nvPr>
        </p:nvSpPr>
        <p:spPr>
          <a:xfrm>
            <a:off x="456840" y="6419880"/>
            <a:ext cx="2119320" cy="3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pl-PL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l-PL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641988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6"/>
          </p:nvPr>
        </p:nvSpPr>
        <p:spPr>
          <a:xfrm>
            <a:off x="8152920" y="6419880"/>
            <a:ext cx="747720" cy="3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pl-PL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2A4F663A-0661-44D1-98BE-A6B81F18C27C}" type="slidenum">
              <a:rPr b="0" lang="pl-PL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5344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456840" y="6419880"/>
            <a:ext cx="2119320" cy="3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pl-PL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l-PL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24080" y="641988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8"/>
          </p:nvPr>
        </p:nvSpPr>
        <p:spPr>
          <a:xfrm>
            <a:off x="8152920" y="6419880"/>
            <a:ext cx="747720" cy="3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pl-PL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85A30B39-4E9B-40DA-BC10-7A8BDC0A19F8}" type="slidenum">
              <a:rPr b="0" lang="pl-PL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5344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9"/>
          </p:nvPr>
        </p:nvSpPr>
        <p:spPr>
          <a:xfrm>
            <a:off x="456840" y="6419880"/>
            <a:ext cx="2119320" cy="3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pl-PL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l-PL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641988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10"/>
          </p:nvPr>
        </p:nvSpPr>
        <p:spPr>
          <a:xfrm>
            <a:off x="8156160" y="6419880"/>
            <a:ext cx="747720" cy="3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pl-PL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283CBED7-7065-4FCD-ADD7-1F759C046A31}" type="slidenum">
              <a:rPr b="0" lang="pl-PL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5344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1"/>
          </p:nvPr>
        </p:nvSpPr>
        <p:spPr>
          <a:xfrm>
            <a:off x="456840" y="6419880"/>
            <a:ext cx="2119320" cy="3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pl-PL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l-PL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124080" y="641988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2"/>
          </p:nvPr>
        </p:nvSpPr>
        <p:spPr>
          <a:xfrm>
            <a:off x="8152920" y="6419880"/>
            <a:ext cx="747720" cy="3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pl-PL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1F362165-0BDA-4DD8-B986-DE4DAE8808BF}" type="slidenum">
              <a:rPr b="0" lang="pl-PL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jpe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5.png"/><Relationship Id="rId4" Type="http://schemas.openxmlformats.org/officeDocument/2006/relationships/image" Target="../media/image19.png"/><Relationship Id="rId5" Type="http://schemas.openxmlformats.org/officeDocument/2006/relationships/image" Target="../media/image20.jpeg"/><Relationship Id="rId6" Type="http://schemas.openxmlformats.org/officeDocument/2006/relationships/image" Target="../media/image21.png"/><Relationship Id="rId7" Type="http://schemas.openxmlformats.org/officeDocument/2006/relationships/image" Target="../media/image11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7d7d"/>
            </a:gs>
            <a:gs pos="100000">
              <a:srgbClr val="242424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513160" y="720720"/>
            <a:ext cx="55861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0" bIns="0" anchor="b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UNIVERSITY OF RZESZÓ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ŁUKASZ URBANE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714240" y="642960"/>
            <a:ext cx="1571760" cy="15717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0" y="33577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pl-PL" sz="3600" spc="-1" strike="noStrike">
                <a:solidFill>
                  <a:srgbClr val="ffffff"/>
                </a:solidFill>
                <a:latin typeface="Arial"/>
              </a:rPr>
              <a:t>WIKILEARNING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3600" spc="-1" strike="noStrike">
                <a:solidFill>
                  <a:srgbClr val="ffffff"/>
                </a:solidFill>
                <a:latin typeface="Arial"/>
              </a:rPr>
              <a:t>A MODEL OF VIRTUAL EDUCATIONAL ENVIRONMEN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00360" y="5580000"/>
            <a:ext cx="180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ramework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0" y="500040"/>
            <a:ext cx="9132840" cy="5881680"/>
            <a:chOff x="0" y="500040"/>
            <a:chExt cx="9132840" cy="5881680"/>
          </a:xfrm>
        </p:grpSpPr>
        <p:pic>
          <p:nvPicPr>
            <p:cNvPr id="310" name="" descr=""/>
            <p:cNvPicPr/>
            <p:nvPr/>
          </p:nvPicPr>
          <p:blipFill>
            <a:blip r:embed="rId1"/>
            <a:stretch/>
          </p:blipFill>
          <p:spPr>
            <a:xfrm>
              <a:off x="0" y="500040"/>
              <a:ext cx="9132840" cy="588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0" y="500040"/>
              <a:ext cx="9132840" cy="58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42840" y="2008080"/>
            <a:ext cx="6977160" cy="40863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1800360" y="0"/>
            <a:ext cx="4679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on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s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syste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vanta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519280" y="6480000"/>
            <a:ext cx="3060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sible differenc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900000" y="900000"/>
            <a:ext cx="7553520" cy="4864320"/>
            <a:chOff x="900000" y="900000"/>
            <a:chExt cx="7553520" cy="4864320"/>
          </a:xfrm>
        </p:grpSpPr>
        <p:pic>
          <p:nvPicPr>
            <p:cNvPr id="317" name="" descr=""/>
            <p:cNvPicPr/>
            <p:nvPr/>
          </p:nvPicPr>
          <p:blipFill>
            <a:blip r:embed="rId1"/>
            <a:stretch/>
          </p:blipFill>
          <p:spPr>
            <a:xfrm>
              <a:off x="900000" y="900000"/>
              <a:ext cx="7553520" cy="486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900000" y="900000"/>
              <a:ext cx="7553520" cy="48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900000" y="2160720"/>
            <a:ext cx="5759640" cy="337320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0" y="179280"/>
            <a:ext cx="9144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yperlinks to other pages in the system everywhere where possi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040360" y="2879640"/>
            <a:ext cx="33415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 the image itself wor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Hyperlink to a closeup with detailed 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5940360"/>
            <a:ext cx="9144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hyperlinks work as detailed explanation balloon pop-u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260360" y="539640"/>
            <a:ext cx="1800" cy="360360"/>
          </a:xfrm>
          <a:prstGeom prst="line">
            <a:avLst/>
          </a:prstGeom>
          <a:ln w="468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619280" y="539640"/>
            <a:ext cx="1440" cy="1079640"/>
          </a:xfrm>
          <a:prstGeom prst="line">
            <a:avLst/>
          </a:prstGeom>
          <a:ln w="468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340000" y="539640"/>
            <a:ext cx="1440" cy="1260720"/>
          </a:xfrm>
          <a:prstGeom prst="line">
            <a:avLst/>
          </a:prstGeom>
          <a:ln w="468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240000" y="539640"/>
            <a:ext cx="1800" cy="1440000"/>
          </a:xfrm>
          <a:prstGeom prst="line">
            <a:avLst/>
          </a:prstGeom>
          <a:ln w="468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140360" y="539640"/>
            <a:ext cx="1440" cy="1619280"/>
          </a:xfrm>
          <a:prstGeom prst="line">
            <a:avLst/>
          </a:prstGeom>
          <a:ln w="468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119640" y="539640"/>
            <a:ext cx="1800" cy="1260720"/>
          </a:xfrm>
          <a:prstGeom prst="line">
            <a:avLst/>
          </a:prstGeom>
          <a:ln w="468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360360"/>
            <a:ext cx="91440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t that is just a very simple implement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1079640"/>
            <a:ext cx="91440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whole lesson may be easily extend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 totally replaced by multimed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interactive material from technologies lik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615960" y="2519280"/>
            <a:ext cx="1003320" cy="93672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4680000" y="2519280"/>
            <a:ext cx="1593720" cy="87804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3"/>
          <a:stretch/>
        </p:blipFill>
        <p:spPr>
          <a:xfrm>
            <a:off x="2340000" y="2519280"/>
            <a:ext cx="1619280" cy="107964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4"/>
          <a:stretch/>
        </p:blipFill>
        <p:spPr>
          <a:xfrm>
            <a:off x="6767640" y="2340000"/>
            <a:ext cx="1692000" cy="144000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1079640" y="3780000"/>
            <a:ext cx="1203120" cy="161892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6342120" y="3959280"/>
            <a:ext cx="1217520" cy="1217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7"/>
          <a:stretch/>
        </p:blipFill>
        <p:spPr>
          <a:xfrm>
            <a:off x="2981160" y="3925800"/>
            <a:ext cx="2598840" cy="12938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0" y="5759280"/>
            <a:ext cx="9144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ystem is ready for these, no changes just plug-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are the advantag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720720" y="360360"/>
            <a:ext cx="4319640" cy="6119640"/>
          </a:xfrm>
          <a:custGeom>
            <a:avLst/>
            <a:gdLst>
              <a:gd name="textAreaLeft" fmla="*/ 360 w 4319640"/>
              <a:gd name="textAreaRight" fmla="*/ 4319280 w 4319640"/>
              <a:gd name="textAreaTop" fmla="*/ 360 h 6119640"/>
              <a:gd name="textAreaBottom" fmla="*/ 6119280 h 6119640"/>
            </a:gdLst>
            <a:ahLst/>
            <a:rect l="textAreaLeft" t="textAreaTop" r="textAreaRight" b="textAreaBottom"/>
            <a:pathLst>
              <a:path w="21600" h="30600">
                <a:moveTo>
                  <a:pt x="7" y="0"/>
                </a:moveTo>
                <a:arcTo wR="7" hR="7" stAng="16200000" swAng="-5400000"/>
                <a:lnTo>
                  <a:pt x="0" y="30593"/>
                </a:lnTo>
                <a:arcTo wR="7" hR="7" stAng="10800000" swAng="-5400000"/>
                <a:lnTo>
                  <a:pt x="21593" y="30600"/>
                </a:lnTo>
                <a:arcTo wR="7" hR="7" stAng="5400000" swAng="-5400000"/>
                <a:lnTo>
                  <a:pt x="21600" y="7"/>
                </a:lnTo>
                <a:arcTo wR="7" hR="7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900000" y="539640"/>
            <a:ext cx="3959280" cy="720720"/>
          </a:xfrm>
          <a:prstGeom prst="roundRect">
            <a:avLst>
              <a:gd name="adj" fmla="val 218"/>
            </a:avLst>
          </a:prstGeom>
          <a:solidFill>
            <a:srgbClr val="00d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vig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00000" y="1440000"/>
            <a:ext cx="3959280" cy="360360"/>
          </a:xfrm>
          <a:prstGeom prst="roundRect">
            <a:avLst>
              <a:gd name="adj" fmla="val 440"/>
            </a:avLst>
          </a:prstGeom>
          <a:solidFill>
            <a:srgbClr val="ff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00000" y="1979640"/>
            <a:ext cx="2340000" cy="1979640"/>
          </a:xfrm>
          <a:prstGeom prst="roundRect">
            <a:avLst>
              <a:gd name="adj" fmla="val 79"/>
            </a:avLst>
          </a:prstGeom>
          <a:solidFill>
            <a:srgbClr val="9966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419640" y="1979640"/>
            <a:ext cx="1439640" cy="1979640"/>
          </a:xfrm>
          <a:custGeom>
            <a:avLst/>
            <a:gdLst>
              <a:gd name="textAreaLeft" fmla="*/ 360 w 1439640"/>
              <a:gd name="textAreaRight" fmla="*/ 1439280 w 143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29700">
                <a:moveTo>
                  <a:pt x="23" y="0"/>
                </a:moveTo>
                <a:arcTo wR="23" hR="23" stAng="16200000" swAng="-5400000"/>
                <a:lnTo>
                  <a:pt x="0" y="29677"/>
                </a:lnTo>
                <a:arcTo wR="23" hR="23" stAng="10800000" swAng="-5400000"/>
                <a:lnTo>
                  <a:pt x="21577" y="29700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solidFill>
            <a:srgbClr val="006b6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a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900000" y="4140360"/>
            <a:ext cx="3959280" cy="1079280"/>
          </a:xfrm>
          <a:prstGeom prst="roundRect">
            <a:avLst>
              <a:gd name="adj" fmla="val 144"/>
            </a:avLst>
          </a:prstGeom>
          <a:solidFill>
            <a:srgbClr val="80801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ercises / Homework / Tas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do by stud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900000" y="5400720"/>
            <a:ext cx="3959280" cy="900000"/>
          </a:xfrm>
          <a:prstGeom prst="roundRect">
            <a:avLst>
              <a:gd name="adj" fmla="val 176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links to other less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119640" y="1606680"/>
            <a:ext cx="20433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yperlinks wit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lpful infor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all of the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288120" y="3932280"/>
            <a:ext cx="1954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lloon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pop-u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mbedded in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 flipV="1">
            <a:off x="4857840" y="1257120"/>
            <a:ext cx="1085760" cy="90612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 flipV="1">
            <a:off x="4857840" y="1617840"/>
            <a:ext cx="1085760" cy="54576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3057120" y="2160720"/>
            <a:ext cx="2886120" cy="17928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4676400" y="2160720"/>
            <a:ext cx="1266840" cy="53964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4676400" y="2160720"/>
            <a:ext cx="1266840" cy="216036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4676400" y="2160720"/>
            <a:ext cx="1266840" cy="341928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4676400" y="4140360"/>
            <a:ext cx="1446120" cy="539640"/>
          </a:xfrm>
          <a:prstGeom prst="line">
            <a:avLst/>
          </a:prstGeom>
          <a:ln w="36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 flipV="1">
            <a:off x="3055680" y="3416040"/>
            <a:ext cx="3066840" cy="726840"/>
          </a:xfrm>
          <a:prstGeom prst="line">
            <a:avLst/>
          </a:prstGeom>
          <a:ln w="36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 flipV="1">
            <a:off x="4676400" y="3057480"/>
            <a:ext cx="1446120" cy="1085760"/>
          </a:xfrm>
          <a:prstGeom prst="line">
            <a:avLst/>
          </a:prstGeom>
          <a:ln w="36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759280" y="716040"/>
            <a:ext cx="306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ypical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720720" y="360360"/>
            <a:ext cx="4319640" cy="6119640"/>
          </a:xfrm>
          <a:custGeom>
            <a:avLst/>
            <a:gdLst>
              <a:gd name="textAreaLeft" fmla="*/ 360 w 4319640"/>
              <a:gd name="textAreaRight" fmla="*/ 4319280 w 4319640"/>
              <a:gd name="textAreaTop" fmla="*/ 360 h 6119640"/>
              <a:gd name="textAreaBottom" fmla="*/ 6119280 h 6119640"/>
            </a:gdLst>
            <a:ahLst/>
            <a:rect l="textAreaLeft" t="textAreaTop" r="textAreaRight" b="textAreaBottom"/>
            <a:pathLst>
              <a:path w="21600" h="30600">
                <a:moveTo>
                  <a:pt x="7" y="0"/>
                </a:moveTo>
                <a:arcTo wR="7" hR="7" stAng="16200000" swAng="-5400000"/>
                <a:lnTo>
                  <a:pt x="0" y="30593"/>
                </a:lnTo>
                <a:arcTo wR="7" hR="7" stAng="10800000" swAng="-5400000"/>
                <a:lnTo>
                  <a:pt x="21593" y="30600"/>
                </a:lnTo>
                <a:arcTo wR="7" hR="7" stAng="5400000" swAng="-5400000"/>
                <a:lnTo>
                  <a:pt x="21600" y="7"/>
                </a:lnTo>
                <a:arcTo wR="7" hR="7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900000" y="539640"/>
            <a:ext cx="3959280" cy="360360"/>
          </a:xfrm>
          <a:prstGeom prst="roundRect">
            <a:avLst>
              <a:gd name="adj" fmla="val 440"/>
            </a:avLst>
          </a:prstGeom>
          <a:solidFill>
            <a:srgbClr val="00d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vig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900000" y="1079640"/>
            <a:ext cx="3959280" cy="360360"/>
          </a:xfrm>
          <a:prstGeom prst="roundRect">
            <a:avLst>
              <a:gd name="adj" fmla="val 440"/>
            </a:avLst>
          </a:prstGeom>
          <a:solidFill>
            <a:srgbClr val="ff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00000" y="5940360"/>
            <a:ext cx="3959280" cy="360360"/>
          </a:xfrm>
          <a:prstGeom prst="roundRect">
            <a:avLst>
              <a:gd name="adj" fmla="val 440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links to other less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900000" y="1619280"/>
            <a:ext cx="3959280" cy="1440000"/>
          </a:xfrm>
          <a:prstGeom prst="roundRect">
            <a:avLst>
              <a:gd name="adj" fmla="val 106"/>
            </a:avLst>
          </a:prstGeom>
          <a:solidFill>
            <a:srgbClr val="aec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2700360" y="1800360"/>
            <a:ext cx="1979640" cy="109044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5580000" y="2155680"/>
            <a:ext cx="2700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Multimedi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900000" y="3060720"/>
            <a:ext cx="3959280" cy="1619280"/>
          </a:xfrm>
          <a:prstGeom prst="roundRect">
            <a:avLst>
              <a:gd name="adj" fmla="val 97"/>
            </a:avLst>
          </a:prstGeom>
          <a:solidFill>
            <a:srgbClr val="ffd32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1079640" y="1800360"/>
            <a:ext cx="1619280" cy="107928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5580000" y="3419640"/>
            <a:ext cx="2340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Interacti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ercises and tasks, quizz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3"/>
          <a:stretch/>
        </p:blipFill>
        <p:spPr>
          <a:xfrm>
            <a:off x="900000" y="3060720"/>
            <a:ext cx="963720" cy="90000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4"/>
          <a:stretch/>
        </p:blipFill>
        <p:spPr>
          <a:xfrm>
            <a:off x="3780000" y="3046320"/>
            <a:ext cx="1079280" cy="145260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5"/>
          <a:stretch/>
        </p:blipFill>
        <p:spPr>
          <a:xfrm>
            <a:off x="2700360" y="3060720"/>
            <a:ext cx="900000" cy="9000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900000" y="4680000"/>
            <a:ext cx="3959280" cy="1079280"/>
          </a:xfrm>
          <a:prstGeom prst="roundRect">
            <a:avLst>
              <a:gd name="adj" fmla="val 144"/>
            </a:avLst>
          </a:prstGeom>
          <a:solidFill>
            <a:srgbClr val="4700b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6"/>
          <a:stretch/>
        </p:blipFill>
        <p:spPr>
          <a:xfrm>
            <a:off x="1440000" y="3745080"/>
            <a:ext cx="1879560" cy="93492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5580000" y="4859280"/>
            <a:ext cx="356400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sonal wiki tools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llaboration too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tools for true teaching-learn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774720" y="4680000"/>
            <a:ext cx="3005280" cy="90972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 flipH="1">
            <a:off x="4856040" y="2340000"/>
            <a:ext cx="727200" cy="1440"/>
          </a:xfrm>
          <a:prstGeom prst="line">
            <a:avLst/>
          </a:prstGeom>
          <a:ln w="36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4856040" y="3780000"/>
            <a:ext cx="727200" cy="1440"/>
          </a:xfrm>
          <a:prstGeom prst="line">
            <a:avLst/>
          </a:prstGeom>
          <a:ln w="36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4856040" y="5219640"/>
            <a:ext cx="727200" cy="1800"/>
          </a:xfrm>
          <a:prstGeom prst="line">
            <a:avLst/>
          </a:prstGeom>
          <a:ln w="36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8"/>
          <a:stretch/>
        </p:blipFill>
        <p:spPr>
          <a:xfrm>
            <a:off x="3600360" y="4680000"/>
            <a:ext cx="1268640" cy="107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0" y="2662200"/>
            <a:ext cx="9144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agine those used today separately, when added together to form this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everyone already saw capabilities of those technologies used separatel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116000" y="1854360"/>
            <a:ext cx="680400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Learn . .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% of what we teach others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3419640"/>
            <a:ext cx="9144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der the students to teach on their own wiki pag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make them learn faster and easi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0" y="3240000"/>
            <a:ext cx="91440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 have all pieces needed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ust need to put them togeth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1979640"/>
            <a:ext cx="91803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"/>
              </a:rPr>
              <a:t>RESUL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419640" y="4500720"/>
            <a:ext cx="2444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st a matter of time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0" y="2700360"/>
            <a:ext cx="914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68280" algn="ctr">
              <a:spcBef>
                <a:spcPts val="1001"/>
              </a:spcBef>
              <a:tabLst>
                <a:tab algn="l" pos="0"/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ank</a:t>
            </a:r>
            <a:r>
              <a:rPr b="1" lang="pl-PL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yo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2157480" y="1314360"/>
            <a:ext cx="52131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Learn . .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% of what we r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% of what we h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% of what we s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% of what we see and h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0% of what we discu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% of what we exper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5% of what we teach others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219640" y="4680000"/>
            <a:ext cx="216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illiam Glass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0" y="4395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ranklin Gothic Book"/>
              </a:rPr>
              <a:t>The goal of this wor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287964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68280" algn="ctr">
              <a:spcBef>
                <a:spcPts val="751"/>
              </a:spcBef>
              <a:tabLst>
                <a:tab algn="l" pos="0"/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n answer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o this century's educational challeng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1114560"/>
            <a:ext cx="91440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(or explanation of the title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1854360"/>
            <a:ext cx="91440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Wikilearning = eLearning + idea of wiki = new opportunitie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3684600"/>
            <a:ext cx="9144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ew meaning of the student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nd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for the stud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2286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Their advantage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u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ir disadvantag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4664160"/>
            <a:ext cx="91440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ke every student teach others on wiki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95% learning effective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1260360" y="1998720"/>
            <a:ext cx="2340000" cy="17812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5400720" y="1800360"/>
            <a:ext cx="2181240" cy="21650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5470560" y="3833640"/>
            <a:ext cx="1909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60360" y="3833640"/>
            <a:ext cx="23400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1 Pers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2879640"/>
            <a:ext cx="9144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879640" y="900000"/>
            <a:ext cx="30099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 consists of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162160" y="5081760"/>
            <a:ext cx="4859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+ selected softw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2160720"/>
            <a:ext cx="9144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only used soft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3060720"/>
            <a:ext cx="91440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n Sourc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e Soft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826920" y="2673360"/>
            <a:ext cx="1694160" cy="200664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720720" y="360360"/>
            <a:ext cx="3135240" cy="175428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5407200" y="209520"/>
            <a:ext cx="2873160" cy="17701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6659640" y="3240000"/>
            <a:ext cx="2160360" cy="113688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5"/>
          <a:stretch/>
        </p:blipFill>
        <p:spPr>
          <a:xfrm>
            <a:off x="4859280" y="4859280"/>
            <a:ext cx="2898720" cy="161928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3780000" y="534960"/>
            <a:ext cx="1800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quirements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440000" y="5940360"/>
            <a:ext cx="16570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Arial"/>
              </a:rPr>
              <a:t>Windows 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3060720" y="720720"/>
            <a:ext cx="3255840" cy="325584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0" y="4025880"/>
            <a:ext cx="91440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VirtualBox = many operating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nning on 1 machin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all in the same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lso commonly used Open Sourc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standard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0" y="2700360"/>
            <a:ext cx="9144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600" spc="-1" strike="noStrike">
                <a:solidFill>
                  <a:srgbClr val="ffffff"/>
                </a:solidFill>
                <a:latin typeface="Arial"/>
              </a:rPr>
              <a:t>See for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your</a:t>
            </a:r>
            <a:r>
              <a:rPr b="1" lang="pl-P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lf.</a:t>
            </a:r>
            <a:r>
              <a:rPr b="1" lang="pl-PL" sz="3600" spc="-1" strike="noStrike">
                <a:solidFill>
                  <a:srgbClr val="ffffff"/>
                </a:solidFill>
                <a:latin typeface="Arial"/>
              </a:rPr>
              <a:t>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539640" y="539640"/>
            <a:ext cx="1260720" cy="126072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1965240" y="1079640"/>
            <a:ext cx="374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2519280" y="539640"/>
            <a:ext cx="1440000" cy="131940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4319640" y="1079640"/>
            <a:ext cx="374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3"/>
          <a:stretch/>
        </p:blipFill>
        <p:spPr>
          <a:xfrm>
            <a:off x="5040360" y="882720"/>
            <a:ext cx="1743120" cy="9176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7184880" y="1079640"/>
            <a:ext cx="374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4"/>
          <a:stretch/>
        </p:blipFill>
        <p:spPr>
          <a:xfrm>
            <a:off x="1260360" y="2533680"/>
            <a:ext cx="1438560" cy="88596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539640" y="2700360"/>
            <a:ext cx="374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4880" y="2700360"/>
            <a:ext cx="374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5"/>
          <a:stretch/>
        </p:blipFill>
        <p:spPr>
          <a:xfrm>
            <a:off x="3608280" y="2417760"/>
            <a:ext cx="1792440" cy="100188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1965240" y="1081080"/>
            <a:ext cx="374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759280" y="2700360"/>
            <a:ext cx="374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6"/>
          <a:stretch/>
        </p:blipFill>
        <p:spPr>
          <a:xfrm>
            <a:off x="1071720" y="4140360"/>
            <a:ext cx="1809720" cy="101124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539640" y="4500720"/>
            <a:ext cx="374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060720" y="4500720"/>
            <a:ext cx="387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7"/>
          <a:stretch/>
        </p:blipFill>
        <p:spPr>
          <a:xfrm>
            <a:off x="3419640" y="3933720"/>
            <a:ext cx="4846320" cy="14670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3913200" y="5580000"/>
            <a:ext cx="3827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not to be confused with Wikiversity or Mood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14400" y="9360"/>
            <a:ext cx="6464160" cy="6847200"/>
            <a:chOff x="14400" y="9360"/>
            <a:chExt cx="6464160" cy="6847200"/>
          </a:xfrm>
        </p:grpSpPr>
        <p:pic>
          <p:nvPicPr>
            <p:cNvPr id="305" name="" descr=""/>
            <p:cNvPicPr/>
            <p:nvPr/>
          </p:nvPicPr>
          <p:blipFill>
            <a:blip r:embed="rId1"/>
            <a:stretch/>
          </p:blipFill>
          <p:spPr>
            <a:xfrm>
              <a:off x="14400" y="9360"/>
              <a:ext cx="6464160" cy="684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14400" y="9360"/>
              <a:ext cx="6464160" cy="68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6840360" y="2340000"/>
            <a:ext cx="216072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s version does not use system's advantages (to show difference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uk</cp:lastModifiedBy>
  <dcterms:modified xsi:type="dcterms:W3CDTF">2011-05-18T09:51:18Z</dcterms:modified>
  <cp:revision>44</cp:revision>
  <dc:subject/>
  <dc:title>Slajd 1</dc:title>
</cp:coreProperties>
</file>